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451-89D0-44AA-B698-76E7DDA3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556-308D-4F6B-BA24-075F32B9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AE2-F722-4E31-8745-11589EBC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208-09AB-4675-8992-807971ED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4341-7B55-4D9E-B8DA-E414EB6D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518A-FE83-4127-90AC-FF303AF4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46AD-707B-4EB7-9030-821ECE81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EDC3-17CA-43D7-807E-6A9BB6F1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F39A-607F-4C4D-AC49-62C32BAF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3FB4-6ECD-4161-9ADC-E6CC8570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26FC-857F-4AB5-87D8-5C188B44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6BD-837D-40A7-B071-41324B74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0BE7-7A35-4214-95D1-DB0DE202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7A04-65ED-4BB6-B798-C776D138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EC51-EEC8-431D-96F9-70B8BE10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FEB6-E37A-49D4-B242-2A35645A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55EE-6511-4987-A5FB-A8F8F95B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350-C534-48AE-A501-A361ADA0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A7F-61E3-4556-AD2A-19B24417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AEB-083B-4A0C-BF93-ACCB5E78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DD8-8643-4847-80D6-ED27017B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4AE-9834-4CCB-ADCD-D84F9037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89A-34BC-4AE2-AE70-EFB6563E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3ED-2256-4059-B5F2-D998521A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45CF-0EC6-4608-9D7E-227E05C0AD2B}" type="slidenum"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AAA1-6F7B-4B82-B19D-4E6EF80164EC}" type="slidenum"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Sicherheits-Betriebssyste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Trusted 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Marcus Vitek</a:t>
            </a: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990239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Containment Implementieru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Containment existiert schon seit Jahren (häufig militärische Zweck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MAC (mandatory access contro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Direkt durch Kern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Kann nicht umgangen werd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Zugriffskontrolle zu Systemressourcen (Dateien, Prozesse, Netzwerkverbindungen,..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Rech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MAC – Bell-LaPadula Mode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Basiert auf dem Verhalten von militärischen Organisationen, Vorhersagbarkeit von Informationsfluss von Prozess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Beschneidung von Rechten des Super-Users und den Applikation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Verlieren der Eigenschaften des zugrundeliegenden Betriebssystems (Administration und Standardapplikationen werden komplizierte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Applikationen können nicht mehr normal funktionieren (teure Anpassungen notwendi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Trusted Linux 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Geschichtete Erweiterung des Standard Linux Kerne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Containment durch Kernel-Level MA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Verschiedene Abteile durch MA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Labeling zur Prozeßzuweisung (gleiches Label – gleiches Abtei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Keine hierarchische Ordnung wie beim Bell-LaPadula-Mod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Trusted Linux OS Datei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ChRoot: eigener Bereich im Dateisystem für jedes Abte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Root kann aus einem Abteil nicht erreicht werd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Flexible Rechte für Dateien (Dateien können unveränderbar gemacht werd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Trusted Linux Kommunik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Flexible Kommunikationspfade zwischen Abteilen und Netzwerk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Über schmale, vom Kernel kontrollierte Schnittstellen zu TCP/UDP und den meisten IPC Mechanism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Zugriff erfolgt durch Regeln, die vom Sicherheitsadministrator für jedes Abteil vergeben werd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TLinux Kernel Implementieru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Schutzbedürftige Ressourcen werden mit einem Etikett versehen (Abteil-Numm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Individuelle Prozes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Geteilte Speicherbereich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Nachrichtenflüs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Sockets, Netzwerkpakete, Netzwerkinterfaces, Routing-Tabelleneinträ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Zuweisung des Etiket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meist durch Vererbu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4191120"/>
            <a:ext cx="3200400" cy="24328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struct socket {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#ifdef TLINU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unsigned long compartmen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Zugriffskontrol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20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Regel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hab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folgen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Form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1752480"/>
            <a:ext cx="5181840" cy="4401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source -&gt; destination method m [attr]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[netdev n]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source/destination is one of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COMPARTMENT (a named compartment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HOST (a fixed IPv4 address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NETWORK (an IPv4 subnet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m: supported kernel mechanism e.g. tcp, udp, msg (message queues),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shm (shared-memory) etc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attr: attributes further qualifying the method 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n: a named network-interface if applicable eg eth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Trusted Linux Regel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Abteil 0 für Kernel-Level Threa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Regeln sind direktion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895480" y="3048120"/>
          <a:ext cx="403884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048120"/>
                    <a:ext cx="403884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133720" y="4648320"/>
            <a:ext cx="5943600" cy="3682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Courier New"/>
              </a:rPr>
              <a:t>HOST:* -&gt; COMPARTMENT X METHOD TCP PORT 8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TL Virtueller Protokoll-St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Individuelle Routing-Tabellen für jedes konfigurierte Abte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Befehle zum Listen von Prozessen listen nur die des aktuellen Abtei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09680" y="3352680"/>
          <a:ext cx="571500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571500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TL Installation und Konfigu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Über Standard Red Hat Installation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MCGA (multi compartment gateway agt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33720" y="2895480"/>
          <a:ext cx="556092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895480"/>
                    <a:ext cx="55609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Inhalt dieses Vortra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E-Services-Gefahr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Die häufigsten Attack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Contain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Implementierung von Contain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Trusted Linux 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Beispielkonfigu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Apache auf  2 separate Instanzen von Jakarta/Tomc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057400" y="2362320"/>
          <a:ext cx="5867280" cy="20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362320"/>
                    <a:ext cx="586728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371600" y="4648320"/>
            <a:ext cx="7467480" cy="1448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HOST:* -&gt; COMPARTMENT WEB METHOD TCP PORT 80 NETDEV eth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COMPARTMENT:WEB -&gt; COMPARTMENT:TOMCAT1 METHOD TCP PORT 8007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COMPARTMENT:WEB -&gt; COMPARTMENT:TOMCAT2 METHOD TCP PORT 800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aeaea"/>
                </a:solidFill>
                <a:latin typeface="Courier New"/>
              </a:rPr>
              <a:t>COMPARTMENT:TOMCAT1 -&gt; HOST:SERVER1 METHOD TCP …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Zusammenfassu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Dynamische Separierung von Serv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Mittelweg zwischen traditionellen Trusted OS und konventionellen 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Sicherheitslayer über Standard Linu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Nicht konfigurierte Services unprivilegie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Erweiterungsfähig (HP-UX, Solaris) und verbreiterungsfähig (andere Kommunikationsmechanism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e-Services Gefahr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Internet – Möchtegern-Angreif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große Programme nie fehlerfre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Manche bugs       Sicherheitslück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Multiple Services: ISP, ASP, xS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Applikationen voreinander schütz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971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66"/>
                </a:solidFill>
                <a:latin typeface="Times New Roman"/>
              </a:rPr>
              <a:t>Ansatz zur Sicherung von e-Servic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Vorschlag: OS-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Anwendungen vor Attacken schütz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Interfaces zu Anwendungen schm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Interfaces stark überwach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Limitierung von eventuellen Schäden an anderen Applikationen oder dem 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Contain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Strikte Einschränkung des Zugriffs von Applikationen (auch, wenn angegriff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Datei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Prozes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Netzwe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IP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Schützt Applikationen vor externen Attacken und Störung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Multiservice mit Contain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14400" y="1828800"/>
          <a:ext cx="723888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2388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Die häufigsten Attack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1. Mißbrauch eines Rechtes um Zugriff zu geschützten Systemressourcen zu erhalt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Wenn eine Applikation mit speziellen Rechten läuft (z.B. roo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2. Untergrabung von von Anwendungen durchgeführten Zugriffskontroll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Bsp.: Web-Server, der unlimitierten Zugriff auf den Inhalt der zugestellten Seiten hat (bei Kontrolle über Webserver      Kontrolle über den Inha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341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Die häufigsten Attack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3. Lieferung von gefälschter sicherheitsrelevanter Infor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Indirekte Attacke: die angegriffene Applikation (z.B. Authorisations-Service) kann verwendet werden, um Zugiff zum Zielservice zu erhalt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4. Unlegitimierte Benutzung von ungeschützten Systemressourc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Nicht geschützte aber normalerweise auch nicht zugängliche Applikation wird mißbraucht, um weitere Attacken durchzuführen (z.B. Shel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Schutz gegen Attack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1., 3. und 4. Fall kann durch Containment unterbunden oder der Schaden beschränkt werd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Times New Roman"/>
              </a:rPr>
              <a:t>2. Fall muß von den Applikationen selbst berücksichtigt werd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Sollte keinen direkten Zugriff auf die geschützten Ressourcen hab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Times New Roman"/>
              </a:rPr>
              <a:t>So klein und fehlerfrei wie mögli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4:11:27Z</dcterms:created>
  <dc:creator>Marcus</dc:creator>
  <dc:description/>
  <dc:language>en-US</dc:language>
  <cp:lastModifiedBy>Marcus</cp:lastModifiedBy>
  <dcterms:modified xsi:type="dcterms:W3CDTF">2001-12-08T00:36:02Z</dcterms:modified>
  <cp:revision>11</cp:revision>
  <dc:subject/>
  <dc:title>Sicherheits-Betriebssysteme</dc:title>
</cp:coreProperties>
</file>