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9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526572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2749680" y="525240"/>
            <a:ext cx="3798720" cy="263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5C2830-B550-4BE2-A719-0219F3C256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2749680" y="525600"/>
            <a:ext cx="3798720" cy="2630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EFEA-5E80-4B52-BBFC-F7434A59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E375-7D9E-4EA9-991E-1B46D0F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EE66-7F49-40DC-B250-B0613AE8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98FF-E64A-436D-A89F-A743044B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0AB4-FC47-48F1-BB45-C6BCB952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6612-2C99-4B7A-A596-AFD9C34D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961B-79F7-4118-AC6B-6714BEEE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EFDF-8996-46BD-940C-ECCED10F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EE9C-958C-44D4-87D2-FA5E751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910D-7B15-4C53-98B0-D1F346F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4C5-BCB6-4E61-9F39-5D9C8D1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2B46-7DC9-4D94-B4F4-850B2782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6D1C-53ED-47CE-AC67-A8B54C1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830-258D-453B-BD5F-BC0F9D4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1B2-1B48-440C-8D39-2C6E2C4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C6FA-D3B9-4EC7-81EE-277A3172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272-0FD7-4308-8D5A-B4E7A0BB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F84C-53E3-4FED-BD7F-CF3E5E50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C2D1-C18C-4A6F-BC88-86290C4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D57B-F595-460D-A5AC-6B1F934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A175-80AB-4F97-968D-B213F2E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E378-EED6-4FC4-8D19-53CB51E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EF19-F496-447E-8061-6470523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4EFC-8596-4D07-A412-3DB3CCF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2863-4933-44CA-A69E-DC455C4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1F64-E27F-4155-AB12-34E1EB2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6642-AE9D-4ACD-A3B1-566E309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3F57-A0E9-43C5-93A0-C3C3116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B0F8-89F8-437A-9A0C-7239D20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DF29-A2C2-4EB1-9E70-B1B423F0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AD2D-A50E-4BBB-B15F-576F1AF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A267-AD59-40D1-8F0E-AEBED34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5940-1334-48CF-9912-26A6A054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4A8F-B6C2-426A-9D4F-1D16205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37A4-4D2E-4B55-B4E6-D52BBB5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1939-BEDA-4277-8FB6-7550E10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960" y="1275480"/>
            <a:ext cx="10127160" cy="5763600"/>
            <a:chOff x="-111960" y="1275480"/>
            <a:chExt cx="10127160" cy="576360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3760" y="1639080"/>
              <a:ext cx="2998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41400" y="1788480"/>
              <a:ext cx="3495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6440" y="1901520"/>
              <a:ext cx="38617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73800" y="2036520"/>
              <a:ext cx="42573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8200" y="2217600"/>
              <a:ext cx="47631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11600" y="2417040"/>
              <a:ext cx="52578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59840" y="2688480"/>
              <a:ext cx="58510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69920" y="2957040"/>
              <a:ext cx="6445800" cy="972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83320" y="3258000"/>
              <a:ext cx="723708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67920" y="3633480"/>
              <a:ext cx="79300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538200" y="4154400"/>
              <a:ext cx="89406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5480" y="4572360"/>
              <a:ext cx="928656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267640" y="4647240"/>
              <a:ext cx="7930080" cy="936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609080" y="4875120"/>
              <a:ext cx="6148800" cy="1008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7104600" y="5561640"/>
              <a:ext cx="330048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9262440" y="6613200"/>
              <a:ext cx="79524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50560" y="3746160"/>
              <a:ext cx="103953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40200" y="5391000"/>
              <a:ext cx="712188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83680" y="5753160"/>
              <a:ext cx="482112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89000" y="6226200"/>
              <a:ext cx="240732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71160" y="5113080"/>
              <a:ext cx="941760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97640" y="3379680"/>
              <a:ext cx="1034388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37520" y="3088080"/>
              <a:ext cx="989676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642240" y="2860560"/>
              <a:ext cx="941364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457640" y="2511000"/>
              <a:ext cx="855576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810080" y="2343240"/>
              <a:ext cx="818280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2138760" y="2185560"/>
              <a:ext cx="78354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556000" y="2071800"/>
              <a:ext cx="7417800" cy="936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836800" y="1933200"/>
              <a:ext cx="7142400" cy="936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1049760" y="2672640"/>
              <a:ext cx="89481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50640" y="4723200"/>
              <a:ext cx="1057428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98800" y="4226760"/>
              <a:ext cx="10495440" cy="100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71880" y="5332320"/>
              <a:ext cx="28872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05720" y="487980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72880" y="5797440"/>
              <a:ext cx="33660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570840" y="422424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02400" y="488304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98720" y="4535640"/>
              <a:ext cx="26820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289160" y="4506840"/>
              <a:ext cx="2595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30720" y="4216320"/>
              <a:ext cx="2581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014920" y="419400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128120" y="394488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83920" y="3673440"/>
              <a:ext cx="23004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75400" y="3419640"/>
              <a:ext cx="230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714200" y="3659040"/>
              <a:ext cx="24084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34800" y="3013200"/>
              <a:ext cx="22176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97920" y="284472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66000" y="300996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67880" y="2822400"/>
              <a:ext cx="21996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34360" y="321300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04520" y="3429000"/>
              <a:ext cx="22860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97480" y="3894120"/>
              <a:ext cx="25740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2920" y="321948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01360" y="345276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47680" y="3668760"/>
              <a:ext cx="23040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3960" y="324972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3440" y="286236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79040" y="303516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01400" y="285912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12320" y="302436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81040" y="283680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7840" y="3225960"/>
              <a:ext cx="23004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6640" y="343836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960" y="30416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1920" y="285264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040" y="301788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2680" y="368784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99680" y="3457440"/>
              <a:ext cx="230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6120" y="392436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74000" y="3198960"/>
              <a:ext cx="24084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4880" y="2698920"/>
              <a:ext cx="2113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3480" y="253836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1040" y="2390760"/>
              <a:ext cx="2116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2532240"/>
              <a:ext cx="2113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61880" y="2682720"/>
              <a:ext cx="2127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7440" y="240048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8120" y="269244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2000" y="254160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14840" y="267660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85640" y="240048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1040" y="253512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1680" y="239400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640" y="269568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63680" y="2532240"/>
              <a:ext cx="2131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94160" y="2398680"/>
              <a:ext cx="2127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2480" y="267984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53836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77320" y="239076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09080" y="240192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7160" y="2700360"/>
              <a:ext cx="21996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5400" y="2552760"/>
              <a:ext cx="21996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3920" y="5799240"/>
              <a:ext cx="33696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5360" y="6372360"/>
              <a:ext cx="32796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2200" y="490536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77320" y="455148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8240" y="423540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84680" y="3895560"/>
              <a:ext cx="25740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96360" y="533412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8280" y="365436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43240" y="3197160"/>
              <a:ext cx="23040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3000" y="342576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80200" y="301320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58480" y="2852640"/>
              <a:ext cx="2217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45760" y="2698920"/>
              <a:ext cx="2131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13960" y="254484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58400" y="2400480"/>
              <a:ext cx="21960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6560" y="2271600"/>
              <a:ext cx="1904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93760" y="227016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9480" y="227016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9840" y="2168640"/>
              <a:ext cx="1904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9080" y="205092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92280" y="185724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0480" y="2171880"/>
              <a:ext cx="19260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56400" y="193680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01800" y="203832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30760" y="2289240"/>
              <a:ext cx="1904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6560" y="226044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50120" y="2038320"/>
              <a:ext cx="1908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160" y="2155680"/>
              <a:ext cx="1904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840" y="183204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02280" y="216684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7280" y="2286000"/>
              <a:ext cx="18036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63760" y="2152800"/>
              <a:ext cx="18180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59080" y="2152800"/>
              <a:ext cx="18216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03560" y="1949400"/>
              <a:ext cx="18180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04400" y="1760400"/>
              <a:ext cx="18216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15440" y="165888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9000" y="165096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0560" y="2027160"/>
              <a:ext cx="1818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1640" y="214308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3040" y="226692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91520" y="168264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7800" y="166680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25640" y="1687680"/>
              <a:ext cx="18036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02800" y="2038320"/>
              <a:ext cx="1904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78520" y="1846440"/>
              <a:ext cx="1918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9520" y="195120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56880" y="176544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9480" y="166860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1000" y="2295360"/>
              <a:ext cx="1904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66600" y="205416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00200" y="1839960"/>
              <a:ext cx="1904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20320" y="174780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88400" y="1844640"/>
              <a:ext cx="1908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3440" y="215280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10040" y="1941480"/>
              <a:ext cx="1908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8000" y="174312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1600" y="2046240"/>
              <a:ext cx="1918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0960" y="213192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8720" y="183528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24440" y="194004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9000" y="176544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0120" y="1851120"/>
              <a:ext cx="1908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7680" y="177948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4440" y="1930320"/>
              <a:ext cx="1904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920" y="185724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6320" y="1955880"/>
              <a:ext cx="1908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920" y="174636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480" y="2082960"/>
              <a:ext cx="1904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5280" y="1589040"/>
              <a:ext cx="17316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05440" y="1608120"/>
              <a:ext cx="17388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90160" y="1600200"/>
              <a:ext cx="17316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8160" y="1589040"/>
              <a:ext cx="17172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9160" y="1494000"/>
              <a:ext cx="1731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1920" y="1579680"/>
              <a:ext cx="1731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65960" y="2254320"/>
              <a:ext cx="1818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96320" y="240660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22600" y="204300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18160" y="1924200"/>
              <a:ext cx="1908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8760" y="1441440"/>
              <a:ext cx="1360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72960" y="1441440"/>
              <a:ext cx="1353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9000" y="1379520"/>
              <a:ext cx="1353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6800" y="1308240"/>
              <a:ext cx="1425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7600" y="1379520"/>
              <a:ext cx="1440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7400" y="1465200"/>
              <a:ext cx="1425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88960" y="1519200"/>
              <a:ext cx="1630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49240" y="1527120"/>
              <a:ext cx="1530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512720"/>
              <a:ext cx="17316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200" y="6392880"/>
              <a:ext cx="33516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9640" y="5827680"/>
              <a:ext cx="33660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7400" y="495468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03800" y="4572000"/>
              <a:ext cx="26964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2320" y="536112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52080" y="4218120"/>
              <a:ext cx="2595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2240" y="3929040"/>
              <a:ext cx="26820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39760" y="3673440"/>
              <a:ext cx="23040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01800" y="320976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4000" y="343224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61000" y="304812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2280" y="286848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874000" y="270180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73080" y="256212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281520" y="241452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96560" y="6462720"/>
              <a:ext cx="33660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77320" y="5862600"/>
              <a:ext cx="33660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06920" y="5881680"/>
              <a:ext cx="34524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21640" y="6427800"/>
              <a:ext cx="33660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360" y="5391000"/>
              <a:ext cx="28872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29960" y="4986360"/>
              <a:ext cx="28692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72760" y="5425920"/>
              <a:ext cx="28692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456084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00800" y="4946760"/>
              <a:ext cx="2883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451440" y="457056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04760" y="424332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38480" y="394956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360360" y="3257640"/>
              <a:ext cx="23004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74000" y="3673440"/>
              <a:ext cx="24048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43640" y="345456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96160" y="30686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81560" y="287496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736920" y="425448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11960" y="4548240"/>
              <a:ext cx="2581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5480" y="2279520"/>
              <a:ext cx="18216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9600" y="6365880"/>
              <a:ext cx="34560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5739-4D07-4B20-B972-FDFE8DAF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11960" y="1278360"/>
            <a:ext cx="10127160" cy="5763600"/>
            <a:chOff x="-111960" y="1278360"/>
            <a:chExt cx="10127160" cy="576360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3760" y="1641960"/>
              <a:ext cx="2998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41400" y="1791360"/>
              <a:ext cx="3495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6440" y="1904400"/>
              <a:ext cx="38617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73800" y="2039400"/>
              <a:ext cx="42573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8200" y="2220480"/>
              <a:ext cx="47631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11600" y="2419920"/>
              <a:ext cx="52578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59840" y="2691360"/>
              <a:ext cx="58510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69920" y="2959920"/>
              <a:ext cx="6445800" cy="972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83320" y="3260880"/>
              <a:ext cx="723708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67920" y="3636360"/>
              <a:ext cx="79300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538200" y="4157280"/>
              <a:ext cx="89406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5480" y="4575240"/>
              <a:ext cx="928656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267640" y="4650120"/>
              <a:ext cx="7930080" cy="936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609080" y="4878000"/>
              <a:ext cx="6148800" cy="1008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7104600" y="5564520"/>
              <a:ext cx="330048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9262440" y="6616080"/>
              <a:ext cx="79524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50560" y="3749040"/>
              <a:ext cx="103953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40200" y="5393880"/>
              <a:ext cx="712188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83680" y="5756040"/>
              <a:ext cx="482112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89000" y="6229080"/>
              <a:ext cx="240732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71160" y="5115960"/>
              <a:ext cx="941760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97640" y="3382560"/>
              <a:ext cx="1034388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37520" y="3090960"/>
              <a:ext cx="989676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642240" y="2863440"/>
              <a:ext cx="941364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457640" y="2513880"/>
              <a:ext cx="855576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810080" y="2346120"/>
              <a:ext cx="818280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2138760" y="2188440"/>
              <a:ext cx="78354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556000" y="2074680"/>
              <a:ext cx="7417800" cy="936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836800" y="1936080"/>
              <a:ext cx="7142400" cy="936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1049760" y="2675520"/>
              <a:ext cx="89481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50640" y="4726080"/>
              <a:ext cx="1057428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98800" y="4229640"/>
              <a:ext cx="10495440" cy="100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71880" y="5335200"/>
              <a:ext cx="28872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5720" y="488268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2880" y="5800320"/>
              <a:ext cx="33660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70840" y="422712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2400" y="488592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8720" y="4538520"/>
              <a:ext cx="26820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89160" y="4509720"/>
              <a:ext cx="2595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720" y="4219200"/>
              <a:ext cx="2581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14920" y="419688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28120" y="394776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83920" y="3676320"/>
              <a:ext cx="23004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5400" y="3422520"/>
              <a:ext cx="230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14200" y="3661920"/>
              <a:ext cx="24084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34800" y="3016080"/>
              <a:ext cx="22176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97920" y="284760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66000" y="30128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880" y="2825280"/>
              <a:ext cx="21996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4360" y="321588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4520" y="3431880"/>
              <a:ext cx="22860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7480" y="3897000"/>
              <a:ext cx="25740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2920" y="322236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01360" y="345564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47680" y="3671640"/>
              <a:ext cx="23040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3960" y="325260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3440" y="28652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9040" y="30380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01400" y="286200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12320" y="30272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1040" y="283968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7840" y="3228840"/>
              <a:ext cx="23004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6640" y="344124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1960" y="304452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1920" y="285552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4040" y="302076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2680" y="369072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99680" y="3460320"/>
              <a:ext cx="230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6120" y="392724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74000" y="3201840"/>
              <a:ext cx="24084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04880" y="2701800"/>
              <a:ext cx="2113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03480" y="254124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81040" y="2393640"/>
              <a:ext cx="2116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79200" y="2535120"/>
              <a:ext cx="2113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61880" y="2685600"/>
              <a:ext cx="2127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7440" y="240336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8120" y="269532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2000" y="254448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14840" y="267948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5640" y="240336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51040" y="253800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1680" y="239688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9640" y="2698560"/>
              <a:ext cx="2116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3680" y="2535120"/>
              <a:ext cx="2131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4160" y="2401560"/>
              <a:ext cx="2127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22480" y="268272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7120" y="254124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77320" y="239364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09080" y="240480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7160" y="2703240"/>
              <a:ext cx="21996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25400" y="2555640"/>
              <a:ext cx="21996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03920" y="5802120"/>
              <a:ext cx="33696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5360" y="6375240"/>
              <a:ext cx="32796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32200" y="490824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7320" y="455436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98240" y="423828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84680" y="3898440"/>
              <a:ext cx="25740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96360" y="533700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38280" y="365724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3240" y="3200040"/>
              <a:ext cx="23040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3000" y="342864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80200" y="301608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8480" y="2855520"/>
              <a:ext cx="2217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45760" y="2701800"/>
              <a:ext cx="2131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13960" y="2547720"/>
              <a:ext cx="2113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58400" y="2403360"/>
              <a:ext cx="21960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76560" y="2274480"/>
              <a:ext cx="1904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93760" y="227304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9480" y="227304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09840" y="2171520"/>
              <a:ext cx="1904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9080" y="205380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92280" y="186012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0480" y="2174760"/>
              <a:ext cx="19260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56400" y="193968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01800" y="204120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30760" y="2292120"/>
              <a:ext cx="1904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6560" y="2263320"/>
              <a:ext cx="19260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50120" y="2041200"/>
              <a:ext cx="1908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4160" y="2158560"/>
              <a:ext cx="1904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840" y="1834920"/>
              <a:ext cx="19260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280" y="216972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77280" y="2288880"/>
              <a:ext cx="18036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63760" y="2155680"/>
              <a:ext cx="18180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59080" y="2155680"/>
              <a:ext cx="18216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3560" y="1952280"/>
              <a:ext cx="18180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04400" y="1763280"/>
              <a:ext cx="18216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15440" y="166176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39000" y="165384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70560" y="2030040"/>
              <a:ext cx="1818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21640" y="214596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3040" y="226980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91520" y="1685520"/>
              <a:ext cx="18216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47800" y="1669680"/>
              <a:ext cx="1818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25640" y="1690560"/>
              <a:ext cx="18036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02800" y="2041200"/>
              <a:ext cx="1904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78520" y="1849320"/>
              <a:ext cx="1918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99520" y="195408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56880" y="176832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19480" y="167148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61000" y="2298240"/>
              <a:ext cx="1904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66600" y="205704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00200" y="1842840"/>
              <a:ext cx="1904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20320" y="175068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88400" y="1847520"/>
              <a:ext cx="1908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23440" y="215568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10040" y="1944360"/>
              <a:ext cx="1908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88000" y="174600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21600" y="2049120"/>
              <a:ext cx="1918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70960" y="213480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8720" y="183816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24440" y="1942920"/>
              <a:ext cx="1926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59000" y="176832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0120" y="1854000"/>
              <a:ext cx="1908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07680" y="1782360"/>
              <a:ext cx="1926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4440" y="1933200"/>
              <a:ext cx="1904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8920" y="186012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6320" y="1958760"/>
              <a:ext cx="1908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5920" y="1749240"/>
              <a:ext cx="1926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480" y="2085840"/>
              <a:ext cx="1904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75280" y="1591920"/>
              <a:ext cx="17316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5440" y="1611000"/>
              <a:ext cx="17388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90160" y="1603080"/>
              <a:ext cx="17316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8160" y="1591920"/>
              <a:ext cx="17172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89160" y="1496880"/>
              <a:ext cx="1731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1920" y="1582560"/>
              <a:ext cx="1731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65960" y="2257200"/>
              <a:ext cx="18180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96320" y="240948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22600" y="2045880"/>
              <a:ext cx="19260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18160" y="1927080"/>
              <a:ext cx="1908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68760" y="1444320"/>
              <a:ext cx="1360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72960" y="1444320"/>
              <a:ext cx="1353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29000" y="1382400"/>
              <a:ext cx="1353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36800" y="1311120"/>
              <a:ext cx="1425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97600" y="1382400"/>
              <a:ext cx="1440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7400" y="1468080"/>
              <a:ext cx="1425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8960" y="1522080"/>
              <a:ext cx="1630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49240" y="1530000"/>
              <a:ext cx="1530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50040" y="1515600"/>
              <a:ext cx="17316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09200" y="6395760"/>
              <a:ext cx="33516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9640" y="5830560"/>
              <a:ext cx="33660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7400" y="495756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03800" y="4574880"/>
              <a:ext cx="26964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72320" y="5364000"/>
              <a:ext cx="28872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52080" y="4221000"/>
              <a:ext cx="2595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32240" y="3931920"/>
              <a:ext cx="26820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39760" y="3676320"/>
              <a:ext cx="23040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01800" y="3212640"/>
              <a:ext cx="23040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94000" y="3435120"/>
              <a:ext cx="238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61000" y="305100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12280" y="287136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874000" y="2704680"/>
              <a:ext cx="2113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73080" y="2565000"/>
              <a:ext cx="213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281520" y="2417400"/>
              <a:ext cx="2113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96560" y="6465600"/>
              <a:ext cx="33660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77320" y="5865480"/>
              <a:ext cx="33660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6920" y="5884560"/>
              <a:ext cx="34524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21640" y="6430680"/>
              <a:ext cx="33660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8360" y="5393880"/>
              <a:ext cx="28872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29960" y="4989240"/>
              <a:ext cx="28692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72760" y="5428800"/>
              <a:ext cx="28692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28200" y="456372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100800" y="4949640"/>
              <a:ext cx="2883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51440" y="457344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04760" y="424620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38480" y="3952440"/>
              <a:ext cx="26820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360360" y="3260520"/>
              <a:ext cx="23004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74000" y="3676320"/>
              <a:ext cx="24048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143640" y="3457440"/>
              <a:ext cx="23040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96160" y="307152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81560" y="2877840"/>
              <a:ext cx="21960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736920" y="4257360"/>
              <a:ext cx="26820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11960" y="4551120"/>
              <a:ext cx="2581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40" y="3935160"/>
              <a:ext cx="26820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480" y="2282400"/>
              <a:ext cx="18216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669600" y="6368760"/>
              <a:ext cx="34560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184464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F69-10FC-4C7C-B0C8-C11F7B10B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D55-724E-4D81-B28B-ADEEBED03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0126398@student.tuwien.ac.at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9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0pht.com/antisniff" TargetMode="Externa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tworkinstuments.com/" TargetMode="Externa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cpdump.org/" TargetMode="External"/><Relationship Id="rId2" Type="http://schemas.openxmlformats.org/officeDocument/2006/relationships/hyperlink" Target="http://www.rootlabs.com/windump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184464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ohannes Ött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7200e4"/>
                </a:solidFill>
                <a:uFillTx/>
                <a:latin typeface="Arial"/>
                <a:hlinkClick r:id="rId1"/>
              </a:rPr>
              <a:t>e0126398@student.tuwien.ac.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seminar WS 01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400" y="620640"/>
            <a:ext cx="89010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00000"/>
                </a:solidFill>
                <a:uFillTx/>
                <a:latin typeface="Arial"/>
              </a:rPr>
              <a:t>4. Wie setzen Hacker Sniffer ein, Sicherheitsris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5000" y="198864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zwerkkenntnisse und Zugang zum Netzwerk 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heitsrisiko, weil alle Daten aufgezeichnet werden, führt allerdings zu Speicher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riffsziel: Authentifi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Protokollen wie Telnet, FTP oder RLogin oder Wörter wie „Password“, „Login“ oder „Authentification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 werden meist unverschlüsselt übert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9B02-BEF0-49F4-A453-0712341A30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l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95000" y="3938760"/>
            <a:ext cx="8915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r Access Verificatio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nen Buchstaben aneinandergereiht ergeben Passwort „ma…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84280" y="907920"/>
            <a:ext cx="8659800" cy="2899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8840-7C3A-48A5-8912-1C6CFB91FD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41240" y="1484280"/>
            <a:ext cx="85806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83480" y="4005360"/>
            <a:ext cx="701640" cy="2156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462880" y="2781360"/>
            <a:ext cx="0" cy="4316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6045120" y="3213000"/>
            <a:ext cx="1716120" cy="100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186520" y="2997360"/>
            <a:ext cx="3175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95000" y="3049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sind in der Nähe eines Gateways am effektiv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515280" y="1989000"/>
            <a:ext cx="1001520" cy="397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052640" y="2421000"/>
            <a:ext cx="1562040" cy="11523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3627360" y="1844640"/>
            <a:ext cx="981000" cy="5335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5343480" y="2852640"/>
            <a:ext cx="1081080" cy="428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5268960" y="1816200"/>
            <a:ext cx="4375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7918560" y="3932280"/>
            <a:ext cx="1093680" cy="7174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7"/>
          <a:stretch/>
        </p:blipFill>
        <p:spPr>
          <a:xfrm>
            <a:off x="7918560" y="2924280"/>
            <a:ext cx="1093680" cy="7156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5343480" y="1844640"/>
            <a:ext cx="986040" cy="5335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4251240" y="2637000"/>
            <a:ext cx="984240" cy="5331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5186520" y="2276640"/>
            <a:ext cx="390240" cy="431640"/>
          </a:xfrm>
          <a:custGeom>
            <a:avLst/>
            <a:gdLst/>
            <a:ahLst/>
            <a:rect l="l" t="t" r="r" b="b"/>
            <a:pathLst>
              <a:path w="566" h="494">
                <a:moveTo>
                  <a:pt x="566" y="0"/>
                </a:moveTo>
                <a:lnTo>
                  <a:pt x="0" y="494"/>
                </a:lnTo>
              </a:path>
            </a:pathLst>
          </a:custGeom>
          <a:noFill/>
          <a:ln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62640" y="2131920"/>
            <a:ext cx="78084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4328640" y="2276280"/>
            <a:ext cx="233640" cy="360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07040" y="3211560"/>
            <a:ext cx="723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82880" y="31399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49600" y="14842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43480" y="148428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0"/>
          <a:stretch/>
        </p:blipFill>
        <p:spPr>
          <a:xfrm>
            <a:off x="7608960" y="1916280"/>
            <a:ext cx="1555560" cy="863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7837200" y="220500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10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921080" y="357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61400" y="4221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75880" y="357336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20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50200" y="2205000"/>
            <a:ext cx="158760" cy="144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278400" y="3068640"/>
            <a:ext cx="389160" cy="287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78400" y="2131920"/>
            <a:ext cx="3114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66960" y="2131920"/>
            <a:ext cx="8604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2689200" y="2131920"/>
            <a:ext cx="549360" cy="649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2689200" y="2637000"/>
            <a:ext cx="990720" cy="7412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691720" y="3429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83040" y="285264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30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37280" y="4292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144880" y="2276640"/>
            <a:ext cx="233280" cy="2156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2144880" y="3428640"/>
            <a:ext cx="233280" cy="360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2"/>
          <a:stretch/>
        </p:blipFill>
        <p:spPr>
          <a:xfrm>
            <a:off x="1987560" y="3716280"/>
            <a:ext cx="528480" cy="7858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3"/>
          <a:stretch/>
        </p:blipFill>
        <p:spPr>
          <a:xfrm>
            <a:off x="1754280" y="1916280"/>
            <a:ext cx="1079280" cy="4269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495360" y="487692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swörter von Host A und Host B werden        mitgel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60240" y="4952880"/>
            <a:ext cx="8502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334E-75CD-4B30-816C-1DE52C5A95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1000" y="274680"/>
            <a:ext cx="905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Snifferattac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700280"/>
            <a:ext cx="8915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ößte bekannte Snifferattacke 1994 in de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wurden auf mehreren Hosts und Backbone – Elementen install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mmelte über 100 000 gültige Benutzernamen und Passwörter aus Internet und Mi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rmen und Behörden bestrebt, Attacken geheim zu halten, um Imageschäden zu verm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AF61-F479-44E2-AF12-5315204967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620640"/>
            <a:ext cx="8915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00000"/>
                </a:solidFill>
                <a:uFillTx/>
                <a:latin typeface="Arial"/>
              </a:rPr>
              <a:t>5.Schutz vor Sni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wierig im Netzwerk zu finden, weil pas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che Betriebssysteme erkennen installierte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ols, die Sniffer erkennen z.B. „Antisniff“, erhältlich unter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10pht.com/antisn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, wenn Hacker ein eigenes Device ins Netzwerk hängen und es verste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urch Segmentierung mit Routern und Switches, Switches anstatt Hub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6E94-67B1-4980-ADB0-6187B21373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1000" y="1916280"/>
            <a:ext cx="75657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-11988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28400" y="549360"/>
            <a:ext cx="8901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Segmentierung mit Switches können Sniffer nur Daten innerhalb einer „Collision Domain“ mitle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13280" y="2852640"/>
            <a:ext cx="1094040" cy="792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76760" y="2852640"/>
            <a:ext cx="0" cy="792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329000" y="2852640"/>
            <a:ext cx="857520" cy="72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006720" y="2852280"/>
            <a:ext cx="1787400" cy="6476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45120" y="2852640"/>
            <a:ext cx="2417760" cy="7923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49640" y="184464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44880" y="40053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22880" y="400536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49600" y="400536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75120" y="4005360"/>
            <a:ext cx="12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527960" y="4005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62040" y="4365720"/>
            <a:ext cx="8974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s Switchport ist eine Collision Domain, Sniffer sieht nur Broadcasts und Multi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n möglich durch Switch-Konfiguration (Port Monit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238560" y="2637000"/>
            <a:ext cx="1481040" cy="71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4641840" y="2133720"/>
            <a:ext cx="1996920" cy="7855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2457360" y="2133720"/>
            <a:ext cx="920880" cy="8650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603440" y="2421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2305080" y="3357720"/>
            <a:ext cx="1085760" cy="7174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3627360" y="3357720"/>
            <a:ext cx="1092240" cy="7174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4952880" y="3357720"/>
            <a:ext cx="1092240" cy="7174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6205680" y="3357720"/>
            <a:ext cx="1085760" cy="7174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7608960" y="3357720"/>
            <a:ext cx="1085760" cy="717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12920" y="4495680"/>
            <a:ext cx="89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s Switchport ist eine eigene Collision 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n möglich durch Konfiguration des Switch, „Port               Monitor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5E45-BC23-4569-9D87-07A9B82EC9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rp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403280" y="1219320"/>
            <a:ext cx="7346880" cy="32763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95000" y="4724280"/>
            <a:ext cx="89154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tch speichert im arp table, über welches Port er die MAC Adresse gelernt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2539-3030-4B7D-8A03-ED412160A1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39040"/>
            <a:ext cx="8915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5000" y="620280"/>
            <a:ext cx="89154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derer Schutzmechanismus: Verschlüsselung, Daten werden kodiert, Daten wertlos für Angrei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cure Shell (SSH, TCP Port 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C109-0639-4A61-93FE-08A801FB72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9400" y="33336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 Zusammenf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stellen großes Sicherheitsrisiko dar, weil alle Daten aufge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ysikalischen Zugang zu Netz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urch sichere Netzinfra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urch Verschlüss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96D7-1D83-41B4-B78C-5D91A32D23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73160" y="1599840"/>
            <a:ext cx="833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funktionieren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her kann man Sniffer beko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setzen Hacker Sniffer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,Sicherheitsris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vor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986A-6E42-4984-82F7-D2213459C7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404640"/>
            <a:ext cx="8915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.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5960" y="16002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ist ein Protokollanaly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ichnen Netzwerkverkehr 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ist Bezeichnung der Fa. „General Network Coorperatio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ieren stark in Desig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Funktion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als Diagnose-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A766-C03E-44EA-BD83-93D2C1CC45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00000"/>
                </a:solidFill>
                <a:uFillTx/>
                <a:latin typeface="Arial"/>
              </a:rPr>
              <a:t>2. Wie funktionieren Sni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9400" y="1413000"/>
            <a:ext cx="8915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funktionieren Netzwer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84280" y="2637000"/>
            <a:ext cx="873756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7AAF-0B75-4962-8B48-5B512B9328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5000" y="216720"/>
            <a:ext cx="8915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052640" y="452520"/>
            <a:ext cx="7800840" cy="34686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3938760"/>
            <a:ext cx="8915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niffer werden im „Promiscuous Mode“ betri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Pakete werden gel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siv, erzeugen keine 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50A0-5DBF-40B1-8D18-D897AAAB61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00000"/>
                </a:solidFill>
                <a:uFillTx/>
                <a:latin typeface="Arial"/>
              </a:rPr>
              <a:t>3.Woher kann man Sniffer bekommen?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 Arten: kommerzielle Sniffer und Fre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kannteste kommerzielle: „Sniffer Pro“ von „Network Accoci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version erhältlich unter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workinstument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4AB9-7D25-47F2-A068-8E08FC818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niffer 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819000" y="1125360"/>
            <a:ext cx="821376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87EE-7CD0-48F1-8A7B-C9A7C2F9F9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niffer Pro, Sniff 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09760" y="1125360"/>
            <a:ext cx="891540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C4B3-9399-4FFB-979C-A6411BCDE2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reew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000" y="126828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betriebssystemabhängig, großteils für UNIX entwick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eten nicht so viele Optionen wie kommerzielle Sniffer, sind aber ausreichend, um einfache Netzwerkprobleme wie Broadcast Storms zu 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CPDUMP“, basiert auf UNIX, erhältlich unter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pdum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UMP“, erhältlich unter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otlabs.com/win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noop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roseminar Sniffer, Johannes Ött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C765-416B-4042-A9CD-7BC87E767D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2. Jänn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23:02:32Z</dcterms:created>
  <dc:creator>Johannes Öttl</dc:creator>
  <dc:description/>
  <dc:language>en-US</dc:language>
  <cp:lastModifiedBy>admin</cp:lastModifiedBy>
  <cp:lastPrinted>2002-01-18T16:53:04Z</cp:lastPrinted>
  <dcterms:modified xsi:type="dcterms:W3CDTF">2002-01-18T16:56:42Z</dcterms:modified>
  <cp:revision>12</cp:revision>
  <dc:subject/>
  <dc:title>Sniffer</dc:title>
</cp:coreProperties>
</file>