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1715-6FE3-4879-8E80-7F471542D9A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19320" y="472428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3D8-5BFB-4DDE-B9EF-128B1B21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9BC-7E9B-4F78-80FB-2DACD9EF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137-EAB3-4863-9FD0-4B928DC2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18B-6DA7-4F7D-A780-E6B069DA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0BF-A837-40C1-B371-1588B19D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9AE-96DB-41DD-ADEB-840A11C3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7F4-FE34-4C2F-AF87-52397866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6D5-CFAA-44D4-80F8-CA854652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9E0-2BC0-4B40-9B61-9212177F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1BA-A45A-4892-8ED4-597DD254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77D-E484-4C37-AA34-296AD568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FF3-C0F8-4949-ABE0-8FAFA790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9711-5987-4192-B847-47CAF5026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inux.nbs.at/firewallhandbuch/zusammen.html" TargetMode="External"/><Relationship Id="rId2" Type="http://schemas.openxmlformats.org/officeDocument/2006/relationships/hyperlink" Target="http://www.linuxguruz.org/iptables/" TargetMode="External"/><Relationship Id="rId3" Type="http://schemas.openxmlformats.org/officeDocument/2006/relationships/hyperlink" Target="http://www.little-idiot.de/firewall/zusammen.html" TargetMode="External"/><Relationship Id="rId4" Type="http://schemas.openxmlformats.org/officeDocument/2006/relationships/hyperlink" Target="http://www.little-idiot.de/firewall/zusammen.html" TargetMode="External"/><Relationship Id="rId5" Type="http://schemas.openxmlformats.org/officeDocument/2006/relationships/hyperlink" Target="http://www.esc.de/intranet/firewall.htm" TargetMode="External"/><Relationship Id="rId6" Type="http://schemas.openxmlformats.org/officeDocument/2006/relationships/hyperlink" Target="http://www.iks-jena.de/mitarb/lutz/usenet/Firewall.html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</a:t>
            </a:r>
            <a:r>
              <a:rPr b="1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400"/>
            </a:br>
            <a:br>
              <a:rPr sz="1200"/>
            </a:b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minar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cherheit von Web-Informationssyste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roslaw Laz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ert Kos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 Wien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Ao.Univ.Prof. Dr.techn. Dipl.-Ing. Wolfgang SL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 2001/2002</a:t>
            </a:r>
            <a:br>
              <a:rPr sz="1800"/>
            </a:br>
            <a:br>
              <a:rPr sz="12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28800" y="2743200"/>
            <a:ext cx="60958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–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94080" y="990720"/>
            <a:ext cx="696096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SICHERHEITSPROBLEME UND GRENZ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EINER FIREWALL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5360" y="259092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ne Angriff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680" y="19810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i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3920" y="327672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ue Angriffstechn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952880" y="1600200"/>
          <a:ext cx="396252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962520" cy="4038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28800" y="2743200"/>
            <a:ext cx="60958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–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990720"/>
            <a:ext cx="50911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Was ist zu tun nach einem Angrif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1905120"/>
            <a:ext cx="6324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urde mein System in irgendeiner Weise kompromittier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eiter bei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rät vom Netz trenn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romitierung festellen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kumentieren, archivieren u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seitigen und weiter bei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4267080"/>
            <a:ext cx="601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st mir ein Schaden entstand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eiter bei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eststellung des Schadens und wei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i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28800" y="2743200"/>
            <a:ext cx="60958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–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990720"/>
            <a:ext cx="50911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Was ist zu tun nach einem Angrif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1905120"/>
            <a:ext cx="6324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nn dieser "Angriff" in Zukunft verhindert werd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valuation der Alternativen, Alternativ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mset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ssnahme(n) durchfüh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aktualiesieren, Service Pack/Update,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3809880"/>
            <a:ext cx="678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st der Aufwand gerechtfertigt eine Anzeige zu erstatt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urückleh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zeige erstatten, den richtigen IS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nachrichtig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der Angriff ist straffbar 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28800" y="2743200"/>
            <a:ext cx="60958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–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39760" y="990720"/>
            <a:ext cx="418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nahmen gegen Angriffe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905120"/>
            <a:ext cx="579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ojanische Pfer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62600" y="2597040"/>
            <a:ext cx="38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Ausgehende Pakete ueberpruefe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ub7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662940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28800" y="2743200"/>
            <a:ext cx="60958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–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39760" y="990720"/>
            <a:ext cx="418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nahmen gegen Angriffe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905120"/>
            <a:ext cx="579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S, Synflo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7760" y="4495680"/>
            <a:ext cx="797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  <a:ea typeface="Tahoma"/>
              </a:rPr>
              <a:t>IPTABLES -A FORWARD -p tcp --syn -m limit --limit 1/s -j ACCE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ing of dea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  <a:ea typeface="Tahoma"/>
              </a:rPr>
              <a:t>IPTABLES -A FORWARD -p icmp --icmp-type echo-request -m li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  <a:ea typeface="Tahoma"/>
              </a:rPr>
              <a:t>--limit 1/s -j ACCEPT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1600" y="2819520"/>
            <a:ext cx="598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- bei &lt;= 50 000 SYN Paketen Interface wird 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3429000"/>
            <a:ext cx="167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SYN Cook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049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–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67652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linux.nbs.at/firewallhandbuch/zusammen.htm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(!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linuxguruz.org/iptables/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(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little-idiot.de/firewall/zusamme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esc.de/intranet/firewall.ht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iks-jena.de/mitarb/lutz/usenet/Firewall.htm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-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4600" y="1270080"/>
            <a:ext cx="3373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Was ist eine Firewall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62240" y="4038480"/>
            <a:ext cx="753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lektronische Brandschutzmau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ine Firewall ist dafür zuständig, einen bestimm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ereich abzugrenzen, damit Schaden, die auf einer Se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r Mauer entstehen, nicht auf die andere überre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3880" y="1752480"/>
          <a:ext cx="708660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7086600" cy="2057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-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1219320"/>
            <a:ext cx="41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irewalls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kolle/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8954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60640" y="220968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9560" y="2743200"/>
            <a:ext cx="11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9200" y="175248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73392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      S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5360" y="5105520"/>
            <a:ext cx="19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    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8280" y="327672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chtige Di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5000" y="419112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      SM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3200" y="4648320"/>
            <a:ext cx="19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    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480" y="373392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    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3120" y="419112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    TE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456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    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029200"/>
            <a:ext cx="312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53341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/etc/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3049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-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93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-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21932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quarade/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8954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00720" y="1752480"/>
            <a:ext cx="70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Windows Welt Internet Connection sharin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-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4200" y="17017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echnolog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0640" y="2895480"/>
            <a:ext cx="25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ketfilter Prin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0" y="3505320"/>
            <a:ext cx="29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pplication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1720" y="4191120"/>
            <a:ext cx="26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ful Inspe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28800" y="2743200"/>
            <a:ext cx="60958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286000"/>
            <a:ext cx="6705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447920"/>
            <a:ext cx="68580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–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990720"/>
            <a:ext cx="486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"/>
              </a:rPr>
              <a:t>Funktionsweise eines Paketfil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52480" y="4343400"/>
            <a:ext cx="6172200" cy="1295280"/>
            <a:chOff x="1752480" y="4343400"/>
            <a:chExt cx="6172200" cy="1295280"/>
          </a:xfrm>
        </p:grpSpPr>
        <p:sp>
          <p:nvSpPr>
            <p:cNvPr id="109" name=""/>
            <p:cNvSpPr/>
            <p:nvPr/>
          </p:nvSpPr>
          <p:spPr>
            <a:xfrm>
              <a:off x="1752480" y="4343400"/>
              <a:ext cx="617220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828800" y="4389480"/>
              <a:ext cx="6095880" cy="1249200"/>
              <a:chOff x="1828800" y="4389480"/>
              <a:chExt cx="6095880" cy="1249200"/>
            </a:xfrm>
          </p:grpSpPr>
          <p:graphicFrame>
            <p:nvGraphicFramePr>
              <p:cNvPr id="111" name=""/>
              <p:cNvGraphicFramePr/>
              <p:nvPr/>
            </p:nvGraphicFramePr>
            <p:xfrm>
              <a:off x="1828800" y="4389480"/>
              <a:ext cx="6095880" cy="1249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28800" y="4389480"/>
                        <a:ext cx="6095880" cy="12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3" name=""/>
              <p:cNvGraphicFramePr/>
              <p:nvPr/>
            </p:nvGraphicFramePr>
            <p:xfrm>
              <a:off x="3386520" y="4649400"/>
              <a:ext cx="541800" cy="221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86520" y="4649400"/>
                        <a:ext cx="541800" cy="221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5" name=""/>
              <p:cNvGraphicFramePr/>
              <p:nvPr/>
            </p:nvGraphicFramePr>
            <p:xfrm>
              <a:off x="5824800" y="4649400"/>
              <a:ext cx="541800" cy="221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24800" y="4649400"/>
                        <a:ext cx="541800" cy="221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" name=""/>
              <p:cNvGraphicFramePr/>
              <p:nvPr/>
            </p:nvGraphicFramePr>
            <p:xfrm>
              <a:off x="5892480" y="5118120"/>
              <a:ext cx="541440" cy="221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892480" y="5118120"/>
                        <a:ext cx="541440" cy="221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9" name=""/>
              <p:cNvGraphicFramePr/>
              <p:nvPr/>
            </p:nvGraphicFramePr>
            <p:xfrm>
              <a:off x="3318840" y="5118120"/>
              <a:ext cx="541440" cy="221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318840" y="5118120"/>
                        <a:ext cx="541440" cy="221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21" name=""/>
          <p:cNvSpPr/>
          <p:nvPr/>
        </p:nvSpPr>
        <p:spPr>
          <a:xfrm>
            <a:off x="1447920" y="1676520"/>
            <a:ext cx="58086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in Filter leitet nur bestimmte Pakete w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Regeln definieren die erlaubten Pak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5400" y="2666880"/>
            <a:ext cx="344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uswahl n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T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Quell- und Ziel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Quell- und Ziel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914400"/>
            <a:ext cx="746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ispie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pchains -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-destination-port 1080 -p udp -j DENY –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pchains -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p icmp --icmp-type echo-request -j REJECT 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pchains –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s 193.170.75.13/32  --destination-port 20:22 -p tcp -j ACCEPT -l -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 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– Firewal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809880"/>
            <a:ext cx="74674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Jan 18 12:46:26 artemis kernel: IN=eth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UT= MAC=00:60:97:37:a1:60:00:01:63:1d:a4:70:0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RC=68.40.161.14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DST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TTL=1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OTO=TC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SPT=282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DPT=6346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838080"/>
            <a:ext cx="807732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049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WIEN – Firewall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11430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ful-inspek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9810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eue Firewall-Technologi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pt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3400" y="3962520"/>
            <a:ext cx="702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ereinigt bereits konzeptuell die Schutzmöglichkei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on Packet Filter und Application Level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28040" y="2590920"/>
            <a:ext cx="78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 Paket wird nicht ,,blind`` gegen definierte Regeln geprü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69080" y="3124080"/>
            <a:ext cx="45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laubnis ist von der Verbind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 dem Status abhäng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11:27:25Z</dcterms:created>
  <dc:creator>biuro</dc:creator>
  <dc:description/>
  <dc:language>en-US</dc:language>
  <cp:lastModifiedBy>Jarek Lazowski</cp:lastModifiedBy>
  <cp:lastPrinted>2001-04-03T15:45:43Z</cp:lastPrinted>
  <dcterms:modified xsi:type="dcterms:W3CDTF">2002-01-19T17:34:41Z</dcterms:modified>
  <cp:revision>44</cp:revision>
  <dc:subject/>
  <dc:title>Prezentacja programu PowerPoint</dc:title>
</cp:coreProperties>
</file>