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DEE9-9B3A-4530-AE0C-5D601E1661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 [3]: Edward Amoroso ist der Chief Technichal Officer des Sicherheitszentrums bei den AT&amp;T Labora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folge von Handlungen: Kann auch unterbrochen sein durch harmlose Handlungen. Je weiter die Handlungen zu der Intrusion gehörenden Handlungen auseinander liegen, desto schwerer wird es, diese zu identifizi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urity Policy: Definiert: Was ist erlaubt, was ni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zwerk, Host: Ganzes Netz kann überwacht werden oder einzelner 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zur Verfügung stellen: Alarm an Sysadmin, oder Benachrichtigung anderer Syst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uelle Antwort: durch Systemadminist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matische Antwort: Intrusion Response Systeme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insatz meist nicht sinnvoll, wegen Fehlalarmen. Am ehesten im militärischem Berei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7C273-1198-4A9A-B0D6-53E25C0E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A05BF-FC31-4CE8-A4A6-A0480497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75DB3-4EB6-46D0-A2AD-CA9E5EC2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770F6-365D-4E4E-8603-5EBCD2DA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4123D-DFD4-4FF9-B3FA-5E2C858B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4300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2E737-0000-49D4-AB38-2179CD10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A2B2C-A9D7-4C73-84E2-25489D1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BB544-7C67-4C62-8B9B-0FB00C4A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69D97-E75A-4583-A06A-5A4880EE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9ECD4-C8B2-4D85-90DA-207A3950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8715-F3F4-42FC-8486-6C7E11AE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2FEAA-D203-4DF4-A74C-C6E48578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4300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194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248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0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194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248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84582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838188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2" marL="1051560" indent="-21024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-21024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4" marL="1892520" indent="-21024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5" marL="1892520" indent="-21024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6" marL="1892520" indent="-21024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2C24-B1C8-4029-A50E-E6FD5A6933A1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99640" y="6337440"/>
            <a:ext cx="619596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dundantes Firewalling am Bsp. Nokia / Checkpoint FW-1, Roman ER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28600" y="1676520"/>
            <a:ext cx="7391520" cy="318960"/>
            <a:chOff x="228600" y="1676520"/>
            <a:chExt cx="7391520" cy="318960"/>
          </a:xfrm>
        </p:grpSpPr>
        <p:sp>
          <p:nvSpPr>
            <p:cNvPr id="9" name=""/>
            <p:cNvSpPr/>
            <p:nvPr/>
          </p:nvSpPr>
          <p:spPr>
            <a:xfrm>
              <a:off x="609480" y="167652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28600" y="167652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8680320" y="762120"/>
            <a:ext cx="4572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461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5A6F-123F-4B52-B789-3612983318F0}" type="slidenum">
              <a:rPr b="0" lang="de-DE" sz="2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/4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55800" y="4765680"/>
            <a:ext cx="4876560" cy="318960"/>
            <a:chOff x="3655800" y="4765680"/>
            <a:chExt cx="4876560" cy="318960"/>
          </a:xfrm>
        </p:grpSpPr>
        <p:sp>
          <p:nvSpPr>
            <p:cNvPr id="52" name=""/>
            <p:cNvSpPr/>
            <p:nvPr/>
          </p:nvSpPr>
          <p:spPr>
            <a:xfrm flipH="1">
              <a:off x="3655440" y="4765680"/>
              <a:ext cx="4625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72440" y="4765680"/>
              <a:ext cx="25992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1773-04DE-41BC-AB25-D7F54384FC89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5800" y="0"/>
              <a:ext cx="84582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dt" idx="6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145C-C25A-4393-A964-150E5EDB68E8}" type="datetime"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7"/>
          </p:nvPr>
        </p:nvSpPr>
        <p:spPr>
          <a:xfrm>
            <a:off x="1332000" y="6550560"/>
            <a:ext cx="59068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Sicherheit von Web-Informationssystemen, Thema IDS, Roman ERN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0"/>
            <a:ext cx="83883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61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DE89-404A-41F5-891F-DFA57C551FDB}" type="slidenum">
              <a:rPr b="0" lang="de-DE" sz="2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Redundantes Firewalling am Beispiel Nokia &amp; Checkpoint FW-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648320" y="3284280"/>
            <a:ext cx="4495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6666"/>
                </a:solidFill>
                <a:latin typeface="Arial"/>
              </a:rPr>
              <a:t>Seminar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006666"/>
                </a:solidFill>
                <a:latin typeface="Arial"/>
              </a:rPr>
              <a:t>Sicherheit für e-commerce</a:t>
            </a:r>
            <a:br>
              <a:rPr sz="2200"/>
            </a:br>
            <a:r>
              <a:rPr b="0" lang="de-DE" sz="2200" spc="-1" strike="noStrike">
                <a:solidFill>
                  <a:srgbClr val="006666"/>
                </a:solidFill>
                <a:latin typeface="Arial"/>
              </a:rPr>
              <a:t>Informationssysteme “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6666"/>
                </a:solidFill>
                <a:latin typeface="Arial"/>
              </a:rPr>
              <a:t>bei Prof. Wolfgang Slany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6666"/>
                </a:solidFill>
                <a:latin typeface="Arial"/>
              </a:rPr>
              <a:t>Vortragender: Roman ERNST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30974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Firewall-1 Mod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Einführung CP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2565360"/>
            <a:ext cx="7850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Installation auf Internet Gateways sowie anderen sicherheitsrelevanten Netzwerkpunkt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Bekommt Regeldefinitionen von EMC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Inspection Module =&gt; alle Pakete werden auf Sicherheitsrichtlinien überprüf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tateful Inspection Technology =&gt; erhöhte Netzwerk-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666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VPN-1 / Firewall-1 Architekt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Einführung CP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178320" cy="3721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4666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Übersi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2781360"/>
            <a:ext cx="80010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14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inführung Checkpoint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4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Checkpoint VPN-1 / FW-1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3366"/>
                </a:solidFill>
                <a:latin typeface="Arial"/>
              </a:rPr>
              <a:t>Nokia Firewalling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3366"/>
                </a:solidFill>
                <a:latin typeface="Arial"/>
              </a:rPr>
              <a:t>Literaturverzeichni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Mgmt. GUI / Log Vie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2. Checkpoint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352260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Inspection Mod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2. Checkpoint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2565360"/>
            <a:ext cx="7850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Inspection Module im Kernel des Betriebsystems direkt unter der ISO-OSI Netzwerkschicht</a:t>
            </a:r>
            <a:br>
              <a:rPr sz="26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=&gt; sichert Inspektion und Überprüfung jedes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aketes, bevor es an höhere Schichten des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etriebsystems weitergegeben wir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Alle Pakete werden geblockt, wenn keine Regel existiert, die das Paket explizit erlaub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84720" y="44280"/>
            <a:ext cx="2819520" cy="11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2068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Inspection Mod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2. Checkpoint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00000" y="2160720"/>
            <a:ext cx="8064720" cy="4238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84720" y="44280"/>
            <a:ext cx="2819520" cy="11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Stateful Inspection Technolo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2. Checkpoint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7777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80240" indent="-48024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Nur SYN-Pakete werden auf Übereinstimmung mit Firewall-Regeln überprüf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849600" indent="-406440">
              <a:lnSpc>
                <a:spcPct val="5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Nicht erlaubt =&gt; reject/drop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49600" indent="-4064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Erlaubt =&gt; Eintragen der Verbindung in</a:t>
            </a:r>
            <a:br>
              <a:rPr sz="2200"/>
            </a:b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Stateful Connection Table (im Kernel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480240" indent="-48024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Nicht-SYN-Pakete werden mit Stateful Connection Table verglich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849600" indent="-406440">
              <a:lnSpc>
                <a:spcPct val="5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Teil einer bestehenden Verbindung =&gt; Erlaub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480240" indent="-48024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Performance-Verbesserung, da schneller Zugriff auf Stateful Connection Table im Kernel!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Standalone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2. Checkpoint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636640"/>
            <a:ext cx="7488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Gesamter Datenverkehr passiert nur eine Firewall an einem Punkt im Netzwer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Single-Point-Of-Failure!!!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Standalone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2. Checkpoint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8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042920" y="2108160"/>
          <a:ext cx="784872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08160"/>
                    <a:ext cx="784872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High Availability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2. Checkpoint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920" y="2304720"/>
            <a:ext cx="785016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Checkpoint HA Module</a:t>
            </a:r>
            <a:br>
              <a:rPr sz="26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=&gt; Redundantes Gateway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=&gt; Transparentes Fail-Over zwischen zwei oder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ehreren Gate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Synchronisation des Stateful Connection Tables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=&gt; Verbindungen bleiben besteh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Ersatz für Checkpoint HA Module:</a:t>
            </a:r>
            <a:br>
              <a:rPr sz="26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okia VRRP (Virtual Redundancy Routing Protocol) + Synchronisation des Stateful Connection Ta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Übersi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2781360"/>
            <a:ext cx="80010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14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inführung Checkpoint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4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Checkpoint VPN-1 / FW-1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3366"/>
                </a:solidFill>
                <a:latin typeface="Arial"/>
              </a:rPr>
              <a:t>Nokia Firewalling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3366"/>
                </a:solidFill>
                <a:latin typeface="Arial"/>
              </a:rPr>
              <a:t>Literaturverzeichni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High Availability Desig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2. Checkpoint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476360" y="2060640"/>
          <a:ext cx="71280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060640"/>
                    <a:ext cx="71280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Übersi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2781360"/>
            <a:ext cx="80010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14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inführung Checkpoint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4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Checkpoint VPN-1 / FW-1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0000"/>
                </a:solidFill>
                <a:latin typeface="Arial"/>
              </a:rPr>
              <a:t>Nokia Firewalling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3366"/>
                </a:solidFill>
                <a:latin typeface="Arial"/>
              </a:rPr>
              <a:t>Literaturverzeichni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Übersicht Nokia Fire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850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Dedizierte Firewall Lösung</a:t>
            </a:r>
            <a:br>
              <a:rPr sz="2600"/>
            </a:b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=&gt; extrem hohe Netzwerkperformanc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Für Checkpoint FW-1 konzipier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Breite Unterstützung von Routing Funktionen und Protokol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Hardware-Lösungen unterscheiden sich durch Datendurchsatz, Rechenleistung, Anzahl der Netzwerkkarten, Hautspeicher,..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Übersicht Nokia Fire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36720" y="2781360"/>
            <a:ext cx="80280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Übersicht Nokia Fire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785016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Betriebsystem:  IPSO (weitgehend an</a:t>
            </a:r>
            <a:br>
              <a:rPr sz="2600"/>
            </a:b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BSD UNIX angelehnt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IPSO besteht aus einem einzigen Image</a:t>
            </a:r>
            <a:br>
              <a:rPr sz="2600"/>
            </a:b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=&gt; einfache Upgrad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Konfiguration + Monitoring über Web-Interfac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VRRP (Virual Router Redundancy Protocol) + FW-1 Stateful Connection Table Synchronisation</a:t>
            </a:r>
            <a:br>
              <a:rPr sz="2600"/>
            </a:b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=&gt; High Availability Lösung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HA mit Hilfe von VRR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920" y="2421000"/>
            <a:ext cx="78501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High Availability durch VRRPv2 Protokol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Grundlage VRRP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Funktionsübernahme durch ein Standby-Gateway, wenn Primary Gateway ausfäll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Elimineren eines Single Point of Failur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Vermeiden längerer Offline-Zeit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eschreibung VRRPv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42920" y="2421000"/>
            <a:ext cx="78501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80240" indent="-48024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Alle beteiligten Gateways senden jede Sekunde sogenannte VRRP-Hello-Pakete an die Multicast-Adresse 224.0.0.18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8024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de-AT" sz="2000" spc="-1" strike="noStrike">
                <a:solidFill>
                  <a:srgbClr val="003366"/>
                </a:solidFill>
                <a:latin typeface="Arial"/>
              </a:rPr>
              <a:t>Beispiel:</a:t>
            </a:r>
            <a:br>
              <a:rPr sz="2000"/>
            </a:br>
            <a:r>
              <a:rPr b="0" lang="de-AT" sz="2000" spc="-1" strike="noStrike">
                <a:solidFill>
                  <a:srgbClr val="003366"/>
                </a:solidFill>
                <a:latin typeface="Arial"/>
              </a:rPr>
              <a:t>192.168.1.1  &gt;  224.0.0.18:  VRRPv2-adver 20:   vrid 2   pri 25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8024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</a:rPr>
              <a:t>=&gt;   Rechner 192.168.1.1 kündigt Anwesenheit an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VRID-ID: 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VRRP-Konfiguration, an der der Rechner teilnimmt</a:t>
            </a:r>
            <a:br>
              <a:rPr sz="2000"/>
            </a:b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riorität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Gibt an, welcher der Gateways bevorzugt benutzt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werden soll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eschreibung VRRPv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920" y="2421000"/>
            <a:ext cx="78501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Prioritäten der Gateway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Gateway besitzt normalerweise seine eigenen IP-Adressen =&gt; Wert 255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Standby-Gateways geben für die IP-Adressen, die sie im Notfall ersetzen sollen, einen Wert von 1-254 an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Sonderfal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Mit einer Priorität 0 gibt das Master Gateway an, daß es an der VRRP-Konfiguration nicht mehr teilnimmt =&gt; schnelles Fail-Over möglich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eispiel VRRPv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16000" y="2116080"/>
          <a:ext cx="788508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116080"/>
                    <a:ext cx="788508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71640" y="5416560"/>
          <a:ext cx="7993080" cy="103644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3366"/>
                          </a:solidFill>
                          <a:uFillTx/>
                          <a:latin typeface="Century Gothic"/>
                          <a:ea typeface="Times New Roman"/>
                        </a:rPr>
                        <a:t>HOST A  (IP 192.168.254.1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VRID 1: 192.168.254.1, Priority 25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VRID 2: 192.168.254.50, Priority 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3366"/>
                          </a:solidFill>
                          <a:uFillTx/>
                          <a:latin typeface="Century Gothic"/>
                          <a:ea typeface="Times New Roman"/>
                        </a:rPr>
                        <a:t>HOST B  (IP 192.168.254.50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VRID 1: 192.168.254.1, Priority 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VRID 2: 192.168.254.50, Priority 25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eispiel VRRPv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63640" y="220068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3366"/>
                </a:solidFill>
                <a:uFillTx/>
                <a:latin typeface="Times New Roman"/>
              </a:rPr>
              <a:t>Kommunikation von Host 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192.168.254.1 &gt; 224.0.0.18:  VRRPv2-adver 20:  vrid 1  pri 25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192.168.254.1 &gt; 224.0.0.18:  VRRPv2-adver 20:  vrid 2  pri 1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GB" sz="2400" spc="-1" strike="noStrike" u="sng">
                <a:solidFill>
                  <a:srgbClr val="003366"/>
                </a:solidFill>
                <a:uFillTx/>
                <a:latin typeface="Times New Roman"/>
              </a:rPr>
              <a:t>Kommunikation von Host B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192.168.254.50 &gt; 224.0.0.18:  VRRPv2-adver 20:  vrid 2  pri 25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366"/>
                </a:solidFill>
                <a:latin typeface="Times New Roman"/>
              </a:rPr>
              <a:t>192.168.254.50 &gt; 224.0.0.18:  VRRPv2-adver 20:  vrid 1  pri 1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AT" sz="2400" spc="-1" strike="noStrike">
                <a:solidFill>
                  <a:srgbClr val="003366"/>
                </a:solidFill>
                <a:latin typeface="Times New Roman"/>
              </a:rPr>
              <a:t>=&gt; 192.168.254.1 - Primäre Adresse für VRID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366"/>
                </a:solidFill>
                <a:latin typeface="Times New Roman"/>
              </a:rPr>
              <a:t>=&gt; 192.168.254.50 - Primäre Adresse für VRID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366"/>
                </a:solidFill>
                <a:latin typeface="Times New Roman"/>
              </a:rPr>
              <a:t>=&gt; Beide übernehmen beim Ausfall des anderen dessen Funk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Übersi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2781360"/>
            <a:ext cx="80010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14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Einführung Checkpoint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4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Checkpoint VPN-1 / FW-1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3366"/>
                </a:solidFill>
                <a:latin typeface="Arial"/>
              </a:rPr>
              <a:t>Nokia Firewalling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3366"/>
                </a:solidFill>
                <a:latin typeface="Arial"/>
              </a:rPr>
              <a:t>Literaturverzeichni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eispiel VRRPv2 – Ausfall Host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63640" y="20890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3366"/>
                </a:solidFill>
                <a:uFillTx/>
                <a:latin typeface="Times New Roman"/>
              </a:rPr>
              <a:t>Kommunikation von Host B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192.168.254.50 &gt; 224.0.0.18:  VRRPv2-adver 20:  vrid 2  pri 25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366"/>
                </a:solidFill>
                <a:latin typeface="Times New Roman"/>
              </a:rPr>
              <a:t>192.168.254.50 &gt; 224.0.0.18:  VRRPv2-adver 20:  vrid 1  pri 100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AT" sz="2400" spc="-1" strike="noStrike">
                <a:solidFill>
                  <a:srgbClr val="003366"/>
                </a:solidFill>
                <a:latin typeface="Times New Roman"/>
              </a:rPr>
              <a:t>Host B bekommt von Host A keine Pakete mehr für VRID 1, </a:t>
            </a:r>
            <a:r>
              <a:rPr b="0" lang="de-AT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de-AT" sz="2400" spc="-1" strike="noStrike">
                <a:solidFill>
                  <a:srgbClr val="003366"/>
                </a:solidFill>
                <a:latin typeface="Times New Roman"/>
              </a:rPr>
              <a:t>die eine höhere Priorität haben als er selb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ost B übernimmt VRID 1 und ersetzt somit Host A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i Übernahme wird Gratious ARP-Request gesendet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oraufhin alle Rechner im Netz ihren ARP-Cache lösch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kete an 192.168.254.1 gehen in weiterer Folge an Host 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eispiel VRRPv2 – Host A zurü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920" y="2707920"/>
            <a:ext cx="7850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Bei Rückkehr von Host A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-419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Host A sendet für der Konfiguration VRID 1 wieder eine Priorität von 255 aus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Höhere Priorität für VRID 1 als Host B</a:t>
            </a:r>
            <a:br>
              <a:rPr sz="24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=&gt; Host A übernimmt seine IP-Adresse wieder</a:t>
            </a: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Probleme von VRRPv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763640" y="2997360"/>
          <a:ext cx="640872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997360"/>
                    <a:ext cx="64087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71280" y="2060280"/>
            <a:ext cx="7848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Ausfall eines einzelnen Interfaces</a:t>
            </a:r>
            <a:br>
              <a:rPr sz="26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=&gt; Host A kann Pakete nicht mehr weiterrou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4508640"/>
          <a:ext cx="597240" cy="19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508640"/>
                    <a:ext cx="59724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Lösung: VRRP Monitored Circu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850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Primary + Backup Interface bekommen neben Ihrer richtigen IP-Adresse noch eine</a:t>
            </a:r>
            <a:br>
              <a:rPr sz="2600"/>
            </a:b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VIRTUELLE Adresse zugewiesen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Im Falle eines Ausfalls wird nur diese virtuelle Adresse vom anderen Gateway übernom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Überwachung eines Gateways nicht wie vorher pro Interface, sondern alle Interfaces werden als Einheit betrachtet.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Lösung: VRRP Monitored Circu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87280" y="2133720"/>
          <a:ext cx="720108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720108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Lösung: VRRP Monitored Circu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71640" y="2144880"/>
          <a:ext cx="7993080" cy="3111480"/>
        </p:xfrm>
        <a:graphic>
          <a:graphicData uri="http://schemas.openxmlformats.org/drawingml/2006/table">
            <a:tbl>
              <a:tblPr/>
              <a:tblGrid>
                <a:gridCol w="3960720"/>
                <a:gridCol w="4032360"/>
              </a:tblGrid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3366"/>
                          </a:solidFill>
                          <a:uFillTx/>
                          <a:latin typeface="Century Gothic"/>
                          <a:ea typeface="Times New Roman"/>
                        </a:rPr>
                        <a:t>HOST 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VRID 1: 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IP   10.1.1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Backup-IP   10.1.1.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Priority   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Hello-Interval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Priority Delta:   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VRID 2: 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IP   192.168.254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Backup-IP 192.168.254.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Priority   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Hello-Interval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Priority Delta:   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 u="sng">
                          <a:solidFill>
                            <a:srgbClr val="003366"/>
                          </a:solidFill>
                          <a:uFillTx/>
                          <a:latin typeface="Century Gothic"/>
                          <a:ea typeface="Times New Roman"/>
                        </a:rPr>
                        <a:t>HOST 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VRID 1: 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IP   10.1.1.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Backup-IP   10.1.1.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Priority   9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Hello-Interval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Priority Delta:   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VRID 2: 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IP   192.168.254.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Backup-IP  192.168.254.2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Priority   9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Hello-Interval   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3366"/>
                          </a:solidFill>
                          <a:latin typeface="Century Gothic"/>
                          <a:ea typeface="Times New Roman"/>
                        </a:rPr>
                        <a:t>Priority Delta:   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2920" y="5300640"/>
            <a:ext cx="7850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Ausfall von Host A – Interface 10.1.1.1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buClr>
                <a:srgbClr val="003366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lle Prioritäten von Host A abzüglich Priority Del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buClr>
                <a:srgbClr val="003366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Host B übernimmt beide VRID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Nokia Installation / Konfigu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IPSO-Image einspie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Hostnamen eintrag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Admin Passwort angeb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Browser Typ für weitere Konfiguration wählen</a:t>
            </a:r>
            <a:br>
              <a:rPr sz="2600"/>
            </a:b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(Lynx / Remote Browser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IP Adresse des Management Interfaces angeb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Weitere Konfiguration über Browse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003366"/>
                </a:solidFill>
                <a:uFillTx/>
                <a:latin typeface="Arial"/>
              </a:rPr>
              <a:t>Beispiel - Browser Konfigu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5600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Fortsetzung Konfigu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VRRP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Checkpoint FW-1, wobei diese nach erfolgter Einrichtung wie gewohnt vom GUI aus administriert werden kan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Logging, NTP (Network Time Protocol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Eventuell diverse Routing Protokoll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6000" y="937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66"/>
                </a:solidFill>
                <a:latin typeface="Arial"/>
              </a:rPr>
              <a:t>Vollkommen redundanter Internetzugan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3. Nokia Firewa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Alles redundant ausgeleg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Internet-Service-Provid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Router, Switch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Firewall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Ideal wären noch Web-Server-Cluster (jeder hat ein Bein in einem anderen Switch!)</a:t>
            </a:r>
            <a:br>
              <a:rPr sz="2200"/>
            </a:br>
            <a:r>
              <a:rPr b="0" lang="de-DE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Kein Single Point Of Failure</a:t>
            </a:r>
            <a:br>
              <a:rPr sz="2600"/>
            </a:b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(außer eventuell Stromversorgung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Checkpoint VPN-1 / FW-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95640" cy="1004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Einführung CP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2349000"/>
            <a:ext cx="7848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Durchsetzen von Sicherheitsrichtlinien im gesamten Netzwerk =&gt; normale Firewall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Installation der Software auf Internet Gateways sowie anderen sicherheitskritischen Punkten im Netz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Erweiterbar durch eine Reihe von Zusatz- bzw. Erweiterungsprodukt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Übersi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2640" y="2781360"/>
            <a:ext cx="80010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14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inführung Checkpoint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14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Checkpoint VPN-1 / FW-1 im Deta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3366"/>
                </a:solidFill>
                <a:latin typeface="Arial"/>
              </a:rPr>
              <a:t>Nokia Firewalling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spcAft>
                <a:spcPts val="1500"/>
              </a:spcAft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0000"/>
                </a:solidFill>
                <a:latin typeface="Arial"/>
              </a:rPr>
              <a:t>Literaturverzeichni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Literaturverzeichn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848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Understanding the FW-1 State Table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 Lance Spitzner, November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de-AT" sz="1800" spc="-1" strike="noStrike">
                <a:solidFill>
                  <a:srgbClr val="003366"/>
                </a:solidFill>
                <a:latin typeface="Arial"/>
              </a:rPr>
              <a:t>Phoneboys Informationen zur FW-1“</a:t>
            </a:r>
            <a:r>
              <a:rPr b="0" lang="de-AT" sz="1600" spc="-1" strike="noStrike">
                <a:solidFill>
                  <a:srgbClr val="003366"/>
                </a:solidFill>
                <a:latin typeface="Arial"/>
              </a:rPr>
              <a:t>,  http://www.phoneboy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Checkpoint Getting Started Guide“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, Jänner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Checkpoint VPN-1/Firewall-1 Reference Guide“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, Jänner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Advanced Technical Reference Guide“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, Juni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Voyager Reference Guide“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,  http://support.nokia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Nokia IPSO Security OS“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,  www.tlk.com/local/nokia/nokiaIPSO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Analysis of VRRPv2 – Issues and Solutions“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, Larry Pingre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7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Firewall Failover using Nokia Firewalls and VRRP“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, Jason Mogaver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50960" cy="1114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rot="5400000">
            <a:off x="-1857960" y="398700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4. Literaturverzeich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Ende des Vortra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366"/>
                </a:solidFill>
                <a:latin typeface="Arial"/>
              </a:rPr>
              <a:t>VIELEN DANK FÜ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366"/>
                </a:solidFill>
                <a:latin typeface="Arial"/>
              </a:rPr>
              <a:t>IHRE AUFMERKSAMKEI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2808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66"/>
                </a:solidFill>
                <a:latin typeface="Arial"/>
              </a:rPr>
              <a:t>Zusatz- bzw. Erweiterungsproduk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24720" y="115920"/>
            <a:ext cx="1295280" cy="1004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Einführung CP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2349360"/>
            <a:ext cx="7848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FloodGate-1</a:t>
            </a:r>
            <a:br>
              <a:rPr sz="26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andbreitenmanagement-Tool, konfigurierbar mittels Gewichtung von Protokollen, Hosts,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VPN-1 SecuRemote / VPN-1 SecureClient</a:t>
            </a:r>
            <a:br>
              <a:rPr sz="26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erschlüsselte Kommunikation mittels VPN, wobei in den SecureClient eine Firewall integriert 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Reporting Module</a:t>
            </a:r>
            <a:br>
              <a:rPr sz="2600"/>
            </a:b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raphische Auswertung der Logfiles, Verteilung der Kosten auf Kunden sowie definierbare Repo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VPN-1 / Firewall-1 Architekt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Einführung CP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2708280"/>
            <a:ext cx="7128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4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 u="sng">
                <a:solidFill>
                  <a:srgbClr val="003366"/>
                </a:solidFill>
                <a:uFillTx/>
                <a:latin typeface="Arial"/>
              </a:rPr>
              <a:t>Firewall Komponent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Graphisches User Interface (GUI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Enterprise Management Konsole (EMC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Firewall-1 Modul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666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rchitektur - Kurzüberbli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Einführung CP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178320" cy="3721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4666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Graphisches User Interface (GU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Einführung CP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920" y="2565000"/>
            <a:ext cx="7850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Erstellung der Sicherheitsrichtlini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Regeldefinition mittels</a:t>
            </a:r>
            <a:br>
              <a:rPr sz="2600"/>
            </a:b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Netzwerk- bzw. Service-Objekt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Log Viewer sowie System Status Viewer integrier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666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Enterprise Mgmt. Konsole (EMC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-1856880" y="398844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spcBef>
                <a:spcPts val="174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6600"/>
                </a:solidFill>
                <a:latin typeface="Arial"/>
              </a:rPr>
              <a:t>Einführung CP FW-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920" y="2565000"/>
            <a:ext cx="7850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Verwaltet die vom GUI erstellten Richtlini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Netzwerk- und Service-Objekte sowie User-Definitionen werden in Datenbanken verwalte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spcAft>
                <a:spcPts val="13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3366"/>
                </a:solidFill>
                <a:latin typeface="Arial"/>
              </a:rPr>
              <a:t>Speicherung der Log-Einträge sämtlicher Firewall Modul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666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20:24:26Z</dcterms:created>
  <dc:creator>Roman Ernst</dc:creator>
  <dc:description/>
  <dc:language>en-US</dc:language>
  <cp:lastModifiedBy>SSSSx</cp:lastModifiedBy>
  <dcterms:modified xsi:type="dcterms:W3CDTF">2002-01-12T03:25:44Z</dcterms:modified>
  <cp:revision>94</cp:revision>
  <dc:subject/>
  <dc:title>Intrusion Detection Systems</dc:title>
</cp:coreProperties>
</file>