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9B5-8315-4A8C-B3FC-3C9FBE23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32BA-EFE8-436D-B499-334E5C25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24B-9394-4014-B1C6-9FFD8DBF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BBE7-6F97-4382-9724-7BA6C513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83C3-AD4B-4843-BE32-987625019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AB2D-33E9-4E63-8A49-AEEB3F59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7BEE-582E-4E07-B773-BEC9F6A7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F3B5-FAB4-4F6D-80C4-5F7A9B89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FF0D-06EA-4D39-A5D4-3C5C025C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B7A2-BB2F-4363-B060-16D9C295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7883-91C6-45D0-A5F1-65DA76C0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49C-C47B-4834-9ADD-D3E5321C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5A13-E49B-4074-A5E6-AD136DA2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678B-E831-4792-B3CB-8421E5AA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9286-19D1-4F2B-8ECF-647A4886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02AD-5722-48A6-B9BD-F6644E7B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D298-875C-48EB-AFE7-1215A5BB6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5ED-2736-4295-9B3D-2D8C3218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4DE-C36B-42E2-863D-1F7DFB9F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E34-A645-4363-A5F7-DB0F59AC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7D2A-AFFD-4EFB-AC6C-AED4C9FF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459-A1A8-4AD3-B53F-DAD8F0CA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A851-5A62-446F-AA6B-61AF965B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2C6-D81B-4EDA-B6B5-8B51A968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A561-DC23-412A-B8DA-17D80C8DCD02}" type="slidenum">
              <a:rPr b="1" lang="de-DE" sz="26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26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D398-28E5-46C9-882B-D3E2B7BE5E4F}" type="slidenum">
              <a:rPr b="1" lang="de-DE" sz="26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eb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e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Network Intrusion Detection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... und wie man sie umgehen kann.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53341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64612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Wolfgang Altendorfer, Jan 2001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DoS - Tools: Stick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Auswirkungen: 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eb"/>
                </a:solidFill>
                <a:latin typeface="Arial"/>
              </a:rPr>
              <a:t>A </a:t>
            </a:r>
            <a:r>
              <a:rPr b="0" lang="de-AT" sz="2000" spc="-1" strike="noStrike" u="sng">
                <a:solidFill>
                  <a:srgbClr val="ffffeb"/>
                </a:solidFill>
                <a:uFillTx/>
                <a:latin typeface="Arial"/>
              </a:rPr>
              <a:t>Linux based </a:t>
            </a:r>
            <a:r>
              <a:rPr b="0" lang="de-DE" sz="2000" spc="-1" strike="noStrike" u="sng">
                <a:solidFill>
                  <a:srgbClr val="ffffeb"/>
                </a:solidFill>
                <a:uFillTx/>
                <a:latin typeface="Arial"/>
              </a:rPr>
              <a:t>SNORT</a:t>
            </a:r>
            <a:r>
              <a:rPr b="0" lang="de-AT" sz="2000" spc="-1" strike="noStrike">
                <a:solidFill>
                  <a:srgbClr val="ffffeb"/>
                </a:solidFill>
                <a:latin typeface="Arial"/>
              </a:rPr>
              <a:t> will hit </a:t>
            </a:r>
            <a:r>
              <a:rPr b="0" lang="de-AT" sz="2000" spc="-1" strike="noStrike" u="sng">
                <a:solidFill>
                  <a:srgbClr val="ffffeb"/>
                </a:solidFill>
                <a:uFillTx/>
                <a:latin typeface="Arial"/>
              </a:rPr>
              <a:t>100% CPU</a:t>
            </a:r>
            <a:r>
              <a:rPr b="0" lang="de-AT" sz="2000" spc="-1" strike="noStrike">
                <a:solidFill>
                  <a:srgbClr val="ffffeb"/>
                </a:solidFill>
                <a:latin typeface="Arial"/>
              </a:rPr>
              <a:t> and start </a:t>
            </a:r>
            <a:r>
              <a:rPr b="0" lang="de-AT" sz="2000" spc="-1" strike="noStrike" u="sng">
                <a:solidFill>
                  <a:srgbClr val="ffffeb"/>
                </a:solidFill>
                <a:uFillTx/>
                <a:latin typeface="Arial"/>
              </a:rPr>
              <a:t>dropping packets</a:t>
            </a:r>
            <a:r>
              <a:rPr b="0" lang="de-AT" sz="2000" spc="-1" strike="noStrike">
                <a:solidFill>
                  <a:srgbClr val="ffffeb"/>
                </a:solidFill>
                <a:latin typeface="Arial"/>
              </a:rPr>
              <a:t>. The stress on recording and disk IO is another problem.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 u="sng">
                <a:solidFill>
                  <a:srgbClr val="ffffeb"/>
                </a:solidFill>
                <a:uFillTx/>
                <a:latin typeface="Arial"/>
              </a:rPr>
              <a:t>ISS Real Secure</a:t>
            </a:r>
            <a:r>
              <a:rPr b="0" lang="de-AT" sz="20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0" lang="de-AT" sz="2000" spc="-1" strike="noStrike" u="sng">
                <a:solidFill>
                  <a:srgbClr val="ffffeb"/>
                </a:solidFill>
                <a:uFillTx/>
                <a:latin typeface="Arial"/>
              </a:rPr>
              <a:t>dies two seconds after the attack begins</a:t>
            </a:r>
            <a:r>
              <a:rPr b="0" lang="de-AT" sz="2000" spc="-1" strike="noStrike">
                <a:solidFill>
                  <a:srgbClr val="ffffeb"/>
                </a:solidFill>
                <a:latin typeface="Arial"/>
              </a:rPr>
              <a:t>. This was tested numerous times. Other IDS and even sniffers (especially with DNS lookups) had problems of</a:t>
            </a:r>
            <a:br>
              <a:rPr sz="2000"/>
            </a:br>
            <a:r>
              <a:rPr b="0" lang="de-AT" sz="2000" spc="-1" strike="noStrike">
                <a:solidFill>
                  <a:srgbClr val="ffffeb"/>
                </a:solidFill>
                <a:latin typeface="Arial"/>
              </a:rPr>
              <a:t>their own.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DoS - Tools: Stick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gegen IDS mit "stateless analysis"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(überprüfen alle Pakete, nicht nur die gültiger</a:t>
            </a:r>
            <a:r>
              <a:rPr b="0" lang="de-DE" sz="18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Verbindungen)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Homepage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</a:rPr>
              <a:t>http://www.eurocompton.net/stick 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Sourecode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eb"/>
                </a:solidFill>
                <a:latin typeface="Arial"/>
              </a:rPr>
              <a:t>http://packetstorm.securify.com/distributed/stick.tgz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DoS - Tools: BO2k noise generator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Führt zu falschem Einordnen des Scans durch IDS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"normaler" BO2k Scan (IDS würde Alarm geben):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79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eb"/>
                </a:solidFill>
                <a:latin typeface="Arial"/>
              </a:rPr>
              <a:t>192.168.1.23 : 1055  --&gt; 10.0.0.1 : 31337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lvl="1" marL="779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eb"/>
                </a:solidFill>
                <a:latin typeface="Arial"/>
              </a:rPr>
              <a:t>192.168.1.23 : 1055  --&gt; 10.0.0.2 : 31337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lvl="1" marL="779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eb"/>
                </a:solidFill>
                <a:latin typeface="Arial"/>
              </a:rPr>
              <a:t>192.168.1.23 : 1055  --&gt; 10.0.0.3 : 31337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lvl="1" marL="779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eb"/>
                </a:solidFill>
                <a:latin typeface="Arial"/>
              </a:rPr>
              <a:t>192.168.1.23 : 1055  --&gt; 10.0.0.4 : 31337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marL="425160" indent="-42516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Scan mit "Noise" (würde vermutlich als Portscan eingeordnet)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79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eb"/>
                </a:solidFill>
                <a:latin typeface="Arial"/>
              </a:rPr>
              <a:t>192.168.1.23 : 1055  --&gt; 10.0.0.1 : 17023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lvl="1" marL="779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eb"/>
                </a:solidFill>
                <a:latin typeface="Arial"/>
              </a:rPr>
              <a:t>192.168.1.23 : 1055  --&gt; 10.0.0.3 : 31337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lvl="1" marL="779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eb"/>
                </a:solidFill>
                <a:latin typeface="Arial"/>
              </a:rPr>
              <a:t>192.168.1.23 : 1055  --&gt; 10.0.0.2 : 9873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lvl="1" marL="779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eb"/>
                </a:solidFill>
                <a:latin typeface="Arial"/>
              </a:rPr>
              <a:t>192.168.1.23 : 1055  --&gt; 10.0.0.2 : 31337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lvl="1" marL="779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eb"/>
                </a:solidFill>
                <a:latin typeface="Arial"/>
              </a:rPr>
              <a:t>192.168.1.23 : 1055  --&gt; 10.0.0.1 : 21032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lvl="1" marL="779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eb"/>
                </a:solidFill>
                <a:latin typeface="Arial"/>
              </a:rPr>
              <a:t>192.168.1.23 : 1055  --&gt; 10.0.0.2 : 37892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lvl="1" marL="779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eb"/>
                </a:solidFill>
                <a:latin typeface="Arial"/>
              </a:rPr>
              <a:t>192.168.1.23 : 1055  --&gt; 10.0.0.1 : 31337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0day exploit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= Neu entdeckte Sicherheitslücken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Signatur-basierte IDS sind chancenlo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(müssen erst in Datenbank aufgenommen werden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SNORT: Regeln bei Bekanntwerden selbst schreiben!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Bekannte Exploits 'codieren'...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HEX-encoding: 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/cgi-bin/ 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--&gt; 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de-AT" sz="2400" spc="-1" strike="noStrike">
                <a:solidFill>
                  <a:srgbClr val="ffffeb"/>
                </a:solidFill>
                <a:latin typeface="Arial"/>
                <a:ea typeface="Arial"/>
              </a:rPr>
              <a:t>"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  <a:ea typeface="Arial"/>
              </a:rPr>
              <a:t>/</a:t>
            </a:r>
            <a:r>
              <a:rPr b="0" lang="de-AT" sz="2400" spc="-1" strike="noStrike">
                <a:solidFill>
                  <a:srgbClr val="ffffeb"/>
                </a:solidFill>
                <a:latin typeface="Arial"/>
                <a:ea typeface="Arial"/>
              </a:rPr>
              <a:t>%63%67%69%2d%62%69%6e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  <a:ea typeface="Arial"/>
              </a:rPr>
              <a:t>/"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Multiple Slashes: 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	</a:t>
            </a:r>
            <a:br>
              <a:rPr sz="2400"/>
            </a:b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  <a:ea typeface="Arial"/>
              </a:rPr>
              <a:t>/</a:t>
            </a:r>
            <a:r>
              <a:rPr b="0" lang="de-AT" sz="2400" spc="-1" strike="noStrike">
                <a:solidFill>
                  <a:srgbClr val="ffffeb"/>
                </a:solidFill>
                <a:latin typeface="Arial"/>
                <a:ea typeface="Arial"/>
              </a:rPr>
              <a:t>cgi-bin//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  <a:ea typeface="Arial"/>
              </a:rPr>
              <a:t>test/////</a:t>
            </a:r>
            <a:r>
              <a:rPr b="0" lang="de-AT" sz="2400" spc="-1" strike="noStrike">
                <a:solidFill>
                  <a:srgbClr val="ffffeb"/>
                </a:solidFill>
                <a:latin typeface="Arial"/>
                <a:ea typeface="Arial"/>
              </a:rPr>
              <a:t>some.cgi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eb"/>
                </a:solidFill>
                <a:latin typeface="Arial"/>
                <a:ea typeface="Arial"/>
              </a:rPr>
              <a:t>Reverse traversal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  <a:ea typeface="Arial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ffffeb"/>
                </a:solidFill>
                <a:latin typeface="Arial"/>
                <a:ea typeface="Arial"/>
              </a:rPr>
              <a:t>	</a:t>
            </a:r>
            <a:r>
              <a:rPr b="0" lang="de-AT" sz="2400" spc="-1" strike="noStrike">
                <a:solidFill>
                  <a:srgbClr val="ffffeb"/>
                </a:solidFill>
                <a:latin typeface="Arial"/>
                <a:ea typeface="Arial"/>
              </a:rPr>
              <a:t>/cgi-bin/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  <a:ea typeface="Arial"/>
              </a:rPr>
              <a:t>some-fake-dir</a:t>
            </a:r>
            <a:r>
              <a:rPr b="0" lang="de-AT" sz="2400" spc="-1" strike="noStrike">
                <a:solidFill>
                  <a:srgbClr val="ffffeb"/>
                </a:solidFill>
                <a:latin typeface="Arial"/>
                <a:ea typeface="Arial"/>
              </a:rPr>
              <a:t>/../some.cgi 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  <a:ea typeface="Arial"/>
              </a:rPr>
              <a:t>Self-reference directories:</a:t>
            </a:r>
            <a:br>
              <a:rPr sz="2400"/>
            </a:br>
            <a:r>
              <a:rPr b="0" lang="de-DE" sz="2400" spc="-1" strike="noStrike">
                <a:solidFill>
                  <a:srgbClr val="ffffeb"/>
                </a:solidFill>
                <a:latin typeface="Arial"/>
                <a:ea typeface="Arial"/>
              </a:rPr>
              <a:t>	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  <a:ea typeface="Arial"/>
              </a:rPr>
              <a:t>www.yahoo.com/././././index.html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Bekannte Exploits 'codieren'...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Long URLs:</a:t>
            </a:r>
            <a:br>
              <a:rPr sz="2400"/>
            </a:b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/blah&lt;lots of characters&gt;blah/../index.html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Slash vs. Backslash</a:t>
            </a:r>
            <a:br>
              <a:rPr sz="2400"/>
            </a:b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/cgi-bin\test\some.cgi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NULL method processing</a:t>
            </a:r>
            <a:br>
              <a:rPr sz="2400"/>
            </a:b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de-AT" sz="2400" spc="-1" strike="noStrike">
                <a:solidFill>
                  <a:srgbClr val="ffffeb"/>
                </a:solidFill>
                <a:latin typeface="Arial"/>
                <a:ea typeface="Arial"/>
              </a:rPr>
              <a:t>GET%00 /cgi-bin/some.cgi HTTP/1.0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Bekannte Exploits 'codieren'...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Umgehen von signaturbasiertem IDS: (#bash)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(Befehl sollte von NIDS nicht mehr erkannt werden können)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[root@snafu /root]# mv /etc/passwd .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wird zu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[root@snafu /root]# NAME1=pass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[root@snafu /root]# NAME2=wd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[root@snafu /root]# export NAME1 NAME2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[root@snafu /root]# alias mv=x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[root@snafu /root]# x /etc/$NAME1$NAME2 .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low traffic scans / distributed scan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IDS werden Portscans ab einer erreichten Grenzschwelle melden.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ab x Ports / Minute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ab x Ports in einer Reihe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ab x Ports vom gleichen Host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Host-Detection: nmap &amp; Co sind sehr 'laut'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nmap muss erst offenen und geschlossenen Port finde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senden von irregulären TCP/IP Paketen 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low traffic scans / distributed scan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Möglichkeiten unterzutauchen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Ports nicht 'hintereinander' scanne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nur wenige Ports / Stunde (bzw. pro Tag!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Ports von verschiedenen IP's aus scanne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ziemlich zeitaufwendig, da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Grenzschwelle normalerweise unbekannt.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eb"/>
                </a:solidFill>
                <a:latin typeface="Arial"/>
              </a:rPr>
              <a:t>X / Xprobe - ICMP based fingerprinting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von Ofir Arkin &amp; Fyodor Yarochkin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www.sys-security.com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sehr elegante Technik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analysiert remote OS TCP/IP stack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keine 'malformed datagrams'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extrem schlank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(siehe auch Phrack #57  www.phrack.org)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Network Intrusion Detection ...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"... yes, a game where people throw ducks at ballons, and nothing is what is seems..."</a:t>
            </a:r>
            <a:br>
              <a:rPr sz="2800"/>
            </a:b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-- Homer J. Simpson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eb"/>
                </a:solidFill>
                <a:latin typeface="Arial"/>
              </a:rPr>
              <a:t>X  /  Xprobe  - ICMP based fingerprinting</a:t>
            </a: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"X is a logic which combines various </a:t>
            </a:r>
            <a:r>
              <a:rPr b="0" lang="de-DE" sz="2800" spc="-1" strike="noStrike" u="sng">
                <a:solidFill>
                  <a:srgbClr val="ffffeb"/>
                </a:solidFill>
                <a:uFillTx/>
                <a:latin typeface="Arial"/>
              </a:rPr>
              <a:t>remote active operating system fingerprinting methods</a:t>
            </a: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 using the </a:t>
            </a:r>
            <a:r>
              <a:rPr b="0" lang="de-DE" sz="2800" spc="-1" strike="noStrike" u="sng">
                <a:solidFill>
                  <a:srgbClr val="ffffeb"/>
                </a:solidFill>
                <a:uFillTx/>
                <a:latin typeface="Arial"/>
              </a:rPr>
              <a:t>ICMP protocol</a:t>
            </a: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 ... into a </a:t>
            </a:r>
            <a:r>
              <a:rPr b="0" lang="de-DE" sz="2800" spc="-1" strike="noStrike" u="sng">
                <a:solidFill>
                  <a:srgbClr val="ffffeb"/>
                </a:solidFill>
                <a:uFillTx/>
                <a:latin typeface="Arial"/>
              </a:rPr>
              <a:t>simple, fast, efficient and a powerful way</a:t>
            </a: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 to </a:t>
            </a:r>
            <a:r>
              <a:rPr b="0" lang="de-DE" sz="2800" spc="-1" strike="noStrike" u="sng">
                <a:solidFill>
                  <a:srgbClr val="ffffeb"/>
                </a:solidFill>
                <a:uFillTx/>
                <a:latin typeface="Arial"/>
              </a:rPr>
              <a:t>detect an underlaying operating system</a:t>
            </a: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 a targeted host is using."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Xprobe: Tool, welches X automatisiert.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X / Xprobe - oder: da waren ja nur drei incoming packets..??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Identifzierung von Windows 2000 durch insgesamt nur 4 gültige ICMP Pakete!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2 gesendete, 2 empfangene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3. gesendetes Paket könnte schön der Angriff sein (bes. bei Web-Servern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1. gesendetes Paket: 8 versch. OS (-klassen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max. 4 gesendete Pakete reichen für alle OS.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X / Xprobe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geringes Datenaufkommen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nur gültige Paket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schwer zu entdecken 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(Gefahr der False Positives!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TCP/IP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Standard: eigentlich in den RFC's der IETF (Internet Engineering Task Force) festgelegt.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Verschieden implementiert (NT4 vs *NIX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Spielräume in der Spezifikation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Behandlung von "unmöglichen" Zuständen.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--&gt; von versch. OS unterschiedlich gelöst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TCP/IP - kurze Erklärung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für unterschiedliche Medien konzipier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MTU (maximum transmission unit) je nach Medium unterschiedlich (maximal Paketgrösse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Paket kann von Routern/Gateways in kleinere Pakete aufgeteilt werden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Pakete können verschiedene Routen nehmen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werden am Ziel wieder zusammengesetz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TCP/IP - kurze Erklärung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Grosses Paket kann bei Übergang auf anderes Netzwerk-segment in kleinere Fragmente zerlegt werden (Nummerierung: Sequence Nummern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Fragmente werden durch den Ziel Host wieder zusammengesetzt.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TCP/IP - packet crafting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TCP/IP Pakete können auch 'von Hand' erzeugt werden (spoofing/raw sockets).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dadurch ist es möglich ungültige Pakete zu erzeugen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Behandlung dieser ungültigen Pakete je nach TCP/IP Stack unterschiedlich!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TCP/IP - overlapping fragment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normalerweise sind Fragmente einfach geteilte grössere Paket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[xxxxxxxxxxxx] -&gt; [xxxxxx][xxxxxx]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durch selbstbasteln können überlappende Fragmente erzeugt werden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[xxxxxxxxxxxx] -&gt; [xxxxxxxxx]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   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[xxxxxxx]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TCP/IP - overlapping fragment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Überlappende Fragmente werden von Betriebssystemen unterschiedlich behandelt.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Dadurch ist es möglich einen kompletten Datenstrom z.B. an einem Linux-basierten IDS vorbeizuschleusen und einen NT4 Rechner zu attackieren, ohne dass das IDS den Angriff überhaupt sehen kann!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                                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[mixed-dataxxxxx]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hacker-software      [NT4xxxxxxxx]               &lt;-- der Angriff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[xxxxLINUX] &lt;-- irgendein blindtext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TCP/IP - overlapping Fragment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Fragment 1a: GET /../../winnt/sam  HTTP/1.1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"überschreiben" durch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Fragment 1b: GET /index.html HTTP/1.1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WinNT 4 wird das nachfolgende Fragment verwerfen und den Inhalt des Paketes 1a ausführen, während der Linux TCP/IP Stack das Fragment 1b an das IDS zur Untersuchung weitergeben wird.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'Tunnelung' der Daten am IDS vorbei.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Grundlegende Funktionsweise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Netzwerkinterface(s) im Promiscous-Mod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Switches mit eigenem 'Mirror-Port'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Passive Protokoll Analyse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"Fail Open"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TCP/IP - Sequence Nummern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ähnliches Verhalten wie bei den Overlapping Fragments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Zwei Pakete mit gleicher Sequence-Nummer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WinNT 4 wird das erste Paket annehmen,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BSD / Linux aber hingegegen das Zweite!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TCP/IP - Sequence Nummern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bei NIDS mit </a:t>
            </a:r>
            <a:r>
              <a:rPr b="0" lang="de-DE" sz="2400" spc="-1" strike="noStrike" u="sng">
                <a:solidFill>
                  <a:srgbClr val="ffffeb"/>
                </a:solidFill>
                <a:uFillTx/>
                <a:latin typeface="Arial"/>
              </a:rPr>
              <a:t>Stateful Inspection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 ließe sich u.U. eine </a:t>
            </a:r>
            <a:r>
              <a:rPr b="0" i="1" lang="de-DE" sz="2400" spc="-1" strike="noStrike" u="sng">
                <a:solidFill>
                  <a:srgbClr val="ffffeb"/>
                </a:solidFill>
                <a:uFillTx/>
                <a:latin typeface="Arial"/>
              </a:rPr>
              <a:t>Desynchronisation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 des NIDS erreichen (wenn es den Traffic anhand der Sequence Nummern mitverfolgt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Folge: u.U. erreichen einer unüberwachten Verbindung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(Verfahren gleicht TCP-Hijacking)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Die Probleme...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NIDS besitzen zu wenig Wissen über das Netzwerk, dass sie überwachen.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Netzwerk-Standards werden nicht eingehalten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Nur gutausgebildete Netzwerk-Analysten können NIDS warten und die Logs und Alerts auswerten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Unzureichendes Sicherheitsbewusstein   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Die Zukunft: IDS, die...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..die Verwundbarkeit der Clients kennen und Angriffe anhand ihrer Gefährlichkeit bewerten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.. den Admin nur mehr bei konkreter Gefahr für die Maschinen benachrichtigen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.. automatisch einen Bug-Fix vorschlagen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.. selbstständig auf Angriffe reagieren, ohne dadurch für DoS Attacken anfällig zu werden.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Vielen Dank.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wascy_@yahoo.com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irc.box.sk  #TUWien #linux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Literatur: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eb"/>
                </a:solidFill>
                <a:latin typeface="Arial"/>
              </a:rPr>
              <a:t>http://www.wiretrip.net/rfp/pages/whitepapers/whiskerids.html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eb"/>
                </a:solidFill>
                <a:latin typeface="Arial"/>
              </a:rPr>
              <a:t>http://rr.sans.org/intrusion/anti-ids.php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http://www.sys-security.com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http://secinf.net/info/ids/idspaper/idspaper.html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eb"/>
                </a:solidFill>
                <a:latin typeface="Arial"/>
              </a:rPr>
              <a:t>http://www.eurocompton.net/stick/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Grundlegender Aufbau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Sensoren </a:t>
            </a:r>
            <a:br>
              <a:rPr sz="2800"/>
            </a:b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(event generators, 'E-boxes'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Analyse-einheiten / Pattern Matching</a:t>
            </a:r>
            <a:br>
              <a:rPr sz="2800"/>
            </a:b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(analysis engines, 'A-boxes'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Speicherung</a:t>
            </a:r>
            <a:br>
              <a:rPr sz="2800"/>
            </a:b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(storage mechanism, 'D-boxes'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Gegenmaßnahmen </a:t>
            </a:r>
            <a:br>
              <a:rPr sz="2800"/>
            </a:b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(countermeasures, 'C-boxes')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NIDS .. eigentlich unhackbar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Stealth - Konfiguration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keine IP-Adresse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gepachter (verkrüppelter) TCP/IP - Stack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umgebautes Patchkabel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Konfiguration mit SSH über zweites Interface (ev. eigener Backbone)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Angriffsebenen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Gesehen werden, aber in der Datenflut untertauche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DoS / DDoS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Gesehen, aber nicht erkannt werde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0day's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Angriff "codieren" / verstecken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Ungesehen am NIDS vorbeikomme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unter der Alarm-Grenzschwelle bleiben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Schwächen des TCP/IP ausnützen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DoS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Senden von gespooften Angriffe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gespoofte Source-IPs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viele unterschiedliche Angriffe als "Trigger"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IDS besonders gefährdet</a:t>
            </a: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, da als "</a:t>
            </a: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Fail Open</a:t>
            </a: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" implementiert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1) Überfüllen der Log-Dateie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eigentlicher Angriff wird nicht mehr geloggt.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2) Angriff im "Rauschen" untergehen lassen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DoS gegen das Security-Personal (Analysten)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DoS - unelegant &amp; gefährlich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Versuchter Angriff fällt auf jeden Fall auf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Auftauchende Fragen: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Ist ein System kompromittiert worden?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Wenn ja: Welches? Wodurch? 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eb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--&gt; viel Arbeit für das Sicherheits-Personal.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eb"/>
                </a:solidFill>
                <a:latin typeface="Arial"/>
              </a:rPr>
              <a:t>Hacker wird das geknackte System vermutlich nur für ganz kurze Zeit nützen können.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eb"/>
                </a:solidFill>
                <a:latin typeface="Arial"/>
              </a:rPr>
              <a:t>DoS - Tools: Stick 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eb"/>
                </a:solidFill>
                <a:latin typeface="Arial"/>
              </a:rPr>
              <a:t>'Stick' - an IDS stress tool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lvl="1" marL="9144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"</a:t>
            </a:r>
            <a:r>
              <a:rPr b="0" lang="de-AT" sz="1800" spc="-1" strike="noStrike">
                <a:solidFill>
                  <a:srgbClr val="ffffeb"/>
                </a:solidFill>
                <a:latin typeface="Arial"/>
              </a:rPr>
              <a:t>The tool </a:t>
            </a:r>
            <a:r>
              <a:rPr b="0" lang="de-AT" sz="1800" spc="-1" strike="noStrike" u="sng">
                <a:solidFill>
                  <a:srgbClr val="ffffeb"/>
                </a:solidFill>
                <a:uFillTx/>
                <a:latin typeface="Arial"/>
              </a:rPr>
              <a:t>uses the Snort rule set</a:t>
            </a:r>
            <a:r>
              <a:rPr b="0" lang="de-AT" sz="1800" spc="-1" strike="noStrike">
                <a:solidFill>
                  <a:srgbClr val="ffffeb"/>
                </a:solidFill>
                <a:latin typeface="Arial"/>
              </a:rPr>
              <a:t> and </a:t>
            </a:r>
            <a:r>
              <a:rPr b="0" lang="de-AT" sz="1800" spc="-1" strike="noStrike" u="sng">
                <a:solidFill>
                  <a:srgbClr val="ffffeb"/>
                </a:solidFill>
                <a:uFillTx/>
                <a:latin typeface="Arial"/>
              </a:rPr>
              <a:t>produces a C program</a:t>
            </a:r>
            <a:r>
              <a:rPr b="0" lang="de-AT" sz="1800" spc="-1" strike="noStrike">
                <a:solidFill>
                  <a:srgbClr val="ffffeb"/>
                </a:solidFill>
                <a:latin typeface="Arial"/>
              </a:rPr>
              <a:t> via lex that when compiled will produce an IP packet </a:t>
            </a:r>
            <a:r>
              <a:rPr b="0" lang="de-AT" sz="1800" spc="-1" strike="noStrike" u="sng">
                <a:solidFill>
                  <a:srgbClr val="ffffeb"/>
                </a:solidFill>
                <a:uFillTx/>
                <a:latin typeface="Arial"/>
              </a:rPr>
              <a:t>capable of triggering that rule from a spoofed IP</a:t>
            </a:r>
            <a:r>
              <a:rPr b="0" lang="de-AT" sz="1800" spc="-1" strike="noStrike">
                <a:solidFill>
                  <a:srgbClr val="ffffeb"/>
                </a:solidFill>
                <a:latin typeface="Arial"/>
              </a:rPr>
              <a:t> range (or all possible IP addresses) into a target IP range. A function is produced for each rule and a loop then executes these rules in a random order. The tool currently produces these at </a:t>
            </a:r>
            <a:r>
              <a:rPr b="0" lang="de-AT" sz="1800" spc="-1" strike="noStrike" u="sng">
                <a:solidFill>
                  <a:srgbClr val="ffffeb"/>
                </a:solidFill>
                <a:uFillTx/>
                <a:latin typeface="Arial"/>
              </a:rPr>
              <a:t>about 250 alarms per second.</a:t>
            </a:r>
            <a:r>
              <a:rPr b="0" lang="de-DE" sz="2000" spc="-1" strike="noStrike">
                <a:solidFill>
                  <a:srgbClr val="ffffeb"/>
                </a:solidFill>
                <a:latin typeface="Arial"/>
              </a:rPr>
              <a:t> .."</a:t>
            </a:r>
            <a:endParaRPr b="0" lang="en-US" sz="2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4T22:14:33Z</dcterms:created>
  <dc:creator>nameless god</dc:creator>
  <dc:description/>
  <dc:language>en-US</dc:language>
  <cp:lastModifiedBy>wascy</cp:lastModifiedBy>
  <dcterms:modified xsi:type="dcterms:W3CDTF">2002-01-18T08:51:07Z</dcterms:modified>
  <cp:revision>28</cp:revision>
  <dc:subject/>
  <dc:title>Network Intrusion Detection</dc:title>
</cp:coreProperties>
</file>