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5.png" ContentType="image/png"/>
  <Override PartName="/ppt/media/image9.wmf" ContentType="image/x-wmf"/>
  <Override PartName="/ppt/media/image14.png" ContentType="image/png"/>
  <Override PartName="/ppt/media/image25.wmf" ContentType="image/x-wmf"/>
  <Override PartName="/ppt/media/image8.wmf" ContentType="image/x-wmf"/>
  <Override PartName="/ppt/media/image13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28.wmf" ContentType="image/x-wmf"/>
  <Override PartName="/ppt/media/image30.png" ContentType="image/png"/>
  <Override PartName="/ppt/media/image5.png" ContentType="image/png"/>
  <Override PartName="/ppt/media/image16.wmf" ContentType="image/x-wmf"/>
  <Override PartName="/ppt/media/image17.wmf" ContentType="image/x-wmf"/>
  <Override PartName="/ppt/media/image19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66D-9A98-4633-983C-A5DA75D6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4ED-F619-4472-A351-B85DBFE4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F86-B9C0-4597-AD39-692363F7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37C8-C0BA-45BE-BBCA-FE217C9E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5B6-8E02-47BB-B182-28DCA16F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B64-A5AE-4096-9686-0B010B15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B9D-6DEA-4A84-B248-0954DAE7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BD0-E384-4587-9EAA-1FBD94EA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F93-E244-4DD5-A792-FC47DCE5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6C2-7AFA-4C1B-B8CB-00C4B922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1FC5-BBDD-4B54-9112-20C154D9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1D4-8438-40A9-B318-5C7FF7C3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09A8-D24F-4597-9283-351BA515D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 Query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rg Gottlob, TU Wi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oph Koch, U. Edinbur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3840" y="6019920"/>
            <a:ext cx="46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d on joint work with R. Pich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e XPat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75248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escendant::a/child::b[descendant::c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following-sibling::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11320" y="4038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2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86000" y="48769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132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69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487692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6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867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69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6200" y="609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6000" y="40384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/descendant::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6000" y="4572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/descendant::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5000" y="4876920"/>
            <a:ext cx="24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descendant::a/child::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97200" y="4724280"/>
            <a:ext cx="24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descendant::a/child::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648320"/>
            <a:ext cx="3124080" cy="9903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21085800">
            <a:off x="6089400" y="4495680"/>
            <a:ext cx="2895480" cy="10670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038480"/>
            <a:ext cx="2438280" cy="4572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4572000"/>
            <a:ext cx="2438280" cy="45720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676520"/>
            <a:ext cx="31244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992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21000" y="5562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0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751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6" name=""/>
          <p:cNvGraphicFramePr/>
          <p:nvPr/>
        </p:nvGraphicFramePr>
        <p:xfrm>
          <a:off x="6858000" y="3505320"/>
          <a:ext cx="2017800" cy="27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05320"/>
                    <a:ext cx="20178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8" name=""/>
          <p:cNvSpPr/>
          <p:nvPr/>
        </p:nvSpPr>
        <p:spPr>
          <a:xfrm>
            <a:off x="33148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9" name="" descr=""/>
          <p:cNvPicPr/>
          <p:nvPr/>
        </p:nvPicPr>
        <p:blipFill>
          <a:blip r:embed="rId4"/>
          <a:stretch/>
        </p:blipFill>
        <p:spPr>
          <a:xfrm>
            <a:off x="685800" y="2362320"/>
            <a:ext cx="2965320" cy="41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0" name=""/>
          <p:cNvGraphicFramePr/>
          <p:nvPr/>
        </p:nvGraphicFramePr>
        <p:xfrm>
          <a:off x="4495680" y="3505320"/>
          <a:ext cx="211140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505320"/>
                    <a:ext cx="2111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2" name=""/>
          <p:cNvGraphicFramePr/>
          <p:nvPr/>
        </p:nvGraphicFramePr>
        <p:xfrm>
          <a:off x="5410080" y="685800"/>
          <a:ext cx="2138400" cy="24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685800"/>
                    <a:ext cx="21384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4" name=""/>
          <p:cNvSpPr/>
          <p:nvPr/>
        </p:nvSpPr>
        <p:spPr>
          <a:xfrm>
            <a:off x="4876920" y="533520"/>
            <a:ext cx="31240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419720" y="5562720"/>
            <a:ext cx="22096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838080" y="3657600"/>
            <a:ext cx="259092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781680" y="5943600"/>
            <a:ext cx="685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362320" y="1752480"/>
            <a:ext cx="45720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2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773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8" name=""/>
          <p:cNvGraphicFramePr/>
          <p:nvPr/>
        </p:nvGraphicFramePr>
        <p:xfrm>
          <a:off x="6858000" y="3505320"/>
          <a:ext cx="2017800" cy="27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05320"/>
                    <a:ext cx="20178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0" name=""/>
          <p:cNvSpPr/>
          <p:nvPr/>
        </p:nvSpPr>
        <p:spPr>
          <a:xfrm>
            <a:off x="33148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1" name="" descr=""/>
          <p:cNvPicPr/>
          <p:nvPr/>
        </p:nvPicPr>
        <p:blipFill>
          <a:blip r:embed="rId4"/>
          <a:stretch/>
        </p:blipFill>
        <p:spPr>
          <a:xfrm>
            <a:off x="685800" y="2362320"/>
            <a:ext cx="2965320" cy="41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2" name=""/>
          <p:cNvGraphicFramePr/>
          <p:nvPr/>
        </p:nvGraphicFramePr>
        <p:xfrm>
          <a:off x="4495680" y="3505320"/>
          <a:ext cx="211140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505320"/>
                    <a:ext cx="2111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4" name=""/>
          <p:cNvGraphicFramePr/>
          <p:nvPr/>
        </p:nvGraphicFramePr>
        <p:xfrm>
          <a:off x="5410080" y="685800"/>
          <a:ext cx="2138400" cy="24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685800"/>
                    <a:ext cx="21384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6" name=""/>
          <p:cNvSpPr/>
          <p:nvPr/>
        </p:nvSpPr>
        <p:spPr>
          <a:xfrm>
            <a:off x="4876920" y="533520"/>
            <a:ext cx="31240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38080" y="3657600"/>
            <a:ext cx="259092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1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792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7" name=""/>
          <p:cNvGraphicFramePr/>
          <p:nvPr/>
        </p:nvGraphicFramePr>
        <p:xfrm>
          <a:off x="6858000" y="3505320"/>
          <a:ext cx="2017800" cy="27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05320"/>
                    <a:ext cx="20178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9" name=""/>
          <p:cNvSpPr/>
          <p:nvPr/>
        </p:nvSpPr>
        <p:spPr>
          <a:xfrm>
            <a:off x="33148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0" name="" descr=""/>
          <p:cNvPicPr/>
          <p:nvPr/>
        </p:nvPicPr>
        <p:blipFill>
          <a:blip r:embed="rId4"/>
          <a:stretch/>
        </p:blipFill>
        <p:spPr>
          <a:xfrm>
            <a:off x="685800" y="2362320"/>
            <a:ext cx="2965320" cy="41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1" name=""/>
          <p:cNvGraphicFramePr/>
          <p:nvPr/>
        </p:nvGraphicFramePr>
        <p:xfrm>
          <a:off x="4495680" y="3505320"/>
          <a:ext cx="211140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505320"/>
                    <a:ext cx="2111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3" name=""/>
          <p:cNvGraphicFramePr/>
          <p:nvPr/>
        </p:nvGraphicFramePr>
        <p:xfrm>
          <a:off x="5410080" y="685800"/>
          <a:ext cx="2138400" cy="24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685800"/>
                    <a:ext cx="21384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5" name=""/>
          <p:cNvSpPr/>
          <p:nvPr/>
        </p:nvSpPr>
        <p:spPr>
          <a:xfrm>
            <a:off x="4876920" y="1523880"/>
            <a:ext cx="32004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066680" y="2819520"/>
            <a:ext cx="198144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0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811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6" name=""/>
          <p:cNvGraphicFramePr/>
          <p:nvPr/>
        </p:nvGraphicFramePr>
        <p:xfrm>
          <a:off x="6858000" y="3505320"/>
          <a:ext cx="2017800" cy="27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05320"/>
                    <a:ext cx="20178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8" name=""/>
          <p:cNvSpPr/>
          <p:nvPr/>
        </p:nvSpPr>
        <p:spPr>
          <a:xfrm>
            <a:off x="33148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9" name="" descr=""/>
          <p:cNvPicPr/>
          <p:nvPr/>
        </p:nvPicPr>
        <p:blipFill>
          <a:blip r:embed="rId4"/>
          <a:stretch/>
        </p:blipFill>
        <p:spPr>
          <a:xfrm>
            <a:off x="685800" y="2362320"/>
            <a:ext cx="2965320" cy="41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0" name=""/>
          <p:cNvGraphicFramePr/>
          <p:nvPr/>
        </p:nvGraphicFramePr>
        <p:xfrm>
          <a:off x="4495680" y="3505320"/>
          <a:ext cx="211140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505320"/>
                    <a:ext cx="2111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2" name=""/>
          <p:cNvGraphicFramePr/>
          <p:nvPr/>
        </p:nvGraphicFramePr>
        <p:xfrm>
          <a:off x="5410080" y="685800"/>
          <a:ext cx="2138400" cy="24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685800"/>
                    <a:ext cx="21384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4" name=""/>
          <p:cNvSpPr/>
          <p:nvPr/>
        </p:nvSpPr>
        <p:spPr>
          <a:xfrm>
            <a:off x="4876920" y="1828800"/>
            <a:ext cx="335268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1066680" y="2819520"/>
            <a:ext cx="198144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990720" y="1752480"/>
            <a:ext cx="380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905120" y="1752480"/>
            <a:ext cx="380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9720" y="4572000"/>
            <a:ext cx="22860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19720" y="5257800"/>
            <a:ext cx="22860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3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834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9" name=""/>
          <p:cNvGraphicFramePr/>
          <p:nvPr/>
        </p:nvGraphicFramePr>
        <p:xfrm>
          <a:off x="6858000" y="3505320"/>
          <a:ext cx="2017800" cy="27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05320"/>
                    <a:ext cx="20178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1" name=""/>
          <p:cNvSpPr/>
          <p:nvPr/>
        </p:nvSpPr>
        <p:spPr>
          <a:xfrm>
            <a:off x="33148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2" name="" descr=""/>
          <p:cNvPicPr/>
          <p:nvPr/>
        </p:nvPicPr>
        <p:blipFill>
          <a:blip r:embed="rId4"/>
          <a:stretch/>
        </p:blipFill>
        <p:spPr>
          <a:xfrm>
            <a:off x="685800" y="2362320"/>
            <a:ext cx="2965320" cy="41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3" name=""/>
          <p:cNvGraphicFramePr/>
          <p:nvPr/>
        </p:nvGraphicFramePr>
        <p:xfrm>
          <a:off x="4495680" y="3505320"/>
          <a:ext cx="211140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505320"/>
                    <a:ext cx="2111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5" name=""/>
          <p:cNvGraphicFramePr/>
          <p:nvPr/>
        </p:nvGraphicFramePr>
        <p:xfrm>
          <a:off x="5410080" y="685800"/>
          <a:ext cx="2138400" cy="24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685800"/>
                    <a:ext cx="21384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7" name=""/>
          <p:cNvSpPr/>
          <p:nvPr/>
        </p:nvSpPr>
        <p:spPr>
          <a:xfrm>
            <a:off x="1066680" y="2819520"/>
            <a:ext cx="198144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/>
          <p:nvPr/>
        </p:nvSpPr>
        <p:spPr>
          <a:xfrm>
            <a:off x="2209680" y="2286000"/>
            <a:ext cx="607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T for each operation                       can be computed in polynomial time given the CVTs for sub-expressions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Value Table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4724280" y="3048120"/>
                <a:ext cx="1067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5257800" y="2286000"/>
                <a:ext cx="16002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2" name=""/>
          <p:cNvSpPr/>
          <p:nvPr/>
        </p:nvSpPr>
        <p:spPr>
          <a:xfrm>
            <a:off x="1143720" y="2286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067400" y="43434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286000" y="4343400"/>
            <a:ext cx="61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T of overall query can be computed (bottom-up) in polynomi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cy of the PTIM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Complexity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 Complexity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, most queries run in quadratic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for main-memory implemen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ation to secondary storage algorithms with PTIME complexity is easy (but with worse bounds than the ones given abov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781440" y="1995480"/>
                <a:ext cx="2162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|</m:t>
                    </m:r>
                    <m:r>
                      <m:t xml:space="preserve">Q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809880" y="2514600"/>
                <a:ext cx="2162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|</m:t>
                    </m:r>
                    <m:r>
                      <m:t xml:space="preserve">Q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e XPat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75248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escendant::a/child::b[descendant::c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following-sibling::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11320" y="4038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2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286000" y="48769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1132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69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487692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26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5867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69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6200" y="609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8800" y="472428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[following-sibling::d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3992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676520"/>
            <a:ext cx="31244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2209680"/>
            <a:ext cx="2590920" cy="60984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5029200"/>
            <a:ext cx="6098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5029200"/>
            <a:ext cx="6098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21000" y="5562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e XPat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175248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escendant::a/child::b[descendant::c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following-sibling::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11320" y="4038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92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9112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286000" y="48769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1132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69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487692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26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0" y="5867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69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6200" y="609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3505320"/>
            <a:ext cx="457200" cy="4572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4038480"/>
            <a:ext cx="457200" cy="4572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648320"/>
            <a:ext cx="457200" cy="4572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5105520"/>
            <a:ext cx="457200" cy="4572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5562720"/>
            <a:ext cx="457200" cy="4572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6095880"/>
            <a:ext cx="457200" cy="4572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5105520"/>
            <a:ext cx="457200" cy="4572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5562720"/>
            <a:ext cx="457200" cy="4572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992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2209680"/>
            <a:ext cx="3276360" cy="60984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676520"/>
            <a:ext cx="31244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5029200"/>
            <a:ext cx="6098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81080" y="5029200"/>
            <a:ext cx="6098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21000" y="5562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e XPat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75248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escendant::a/child::b[descendant::c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following-sibling::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11320" y="4038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2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286000" y="48769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1132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069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487692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026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0" y="5867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69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06200" y="609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05320"/>
            <a:ext cx="457200" cy="4572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038480"/>
            <a:ext cx="457200" cy="4572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2520" y="4648320"/>
            <a:ext cx="457200" cy="4572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5105520"/>
            <a:ext cx="457200" cy="4572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5562720"/>
            <a:ext cx="457200" cy="4572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6095880"/>
            <a:ext cx="457200" cy="4572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72200" y="5105520"/>
            <a:ext cx="457200" cy="4572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72200" y="5562720"/>
            <a:ext cx="457200" cy="4572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3581280"/>
            <a:ext cx="304920" cy="3049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4114800"/>
            <a:ext cx="304920" cy="3049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724280"/>
            <a:ext cx="304920" cy="3049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5638680"/>
            <a:ext cx="304560" cy="3049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33720" y="5181480"/>
            <a:ext cx="304560" cy="3049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3992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2209680"/>
            <a:ext cx="3276360" cy="60984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1676520"/>
            <a:ext cx="1752840" cy="6094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676520"/>
            <a:ext cx="31244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5029200"/>
            <a:ext cx="6098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81080" y="5029200"/>
            <a:ext cx="6098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008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21000" y="5562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276720" y="1600200"/>
            <a:ext cx="3657600" cy="1371600"/>
          </a:xfrm>
          <a:prstGeom prst="ellipse">
            <a:avLst/>
          </a:pr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e XPat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75248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escendant::a/child::b[descendant::c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following-sibling::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11320" y="4038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2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9112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286000" y="48769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1132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69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91120" y="487692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026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5867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69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6200" y="609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3505320"/>
            <a:ext cx="457200" cy="457200"/>
          </a:xfrm>
          <a:prstGeom prst="ellipse">
            <a:avLst/>
          </a:pr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038480"/>
            <a:ext cx="457200" cy="457200"/>
          </a:xfrm>
          <a:prstGeom prst="ellipse">
            <a:avLst/>
          </a:pr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4648320"/>
            <a:ext cx="457200" cy="457200"/>
          </a:xfrm>
          <a:prstGeom prst="ellipse">
            <a:avLst/>
          </a:pr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57400" y="5562720"/>
            <a:ext cx="457200" cy="457200"/>
          </a:xfrm>
          <a:prstGeom prst="ellipse">
            <a:avLst/>
          </a:pr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5105520"/>
            <a:ext cx="457200" cy="457200"/>
          </a:xfrm>
          <a:prstGeom prst="ellipse">
            <a:avLst/>
          </a:pr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992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1600200"/>
            <a:ext cx="3657600" cy="13716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676520"/>
            <a:ext cx="31244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5029200"/>
            <a:ext cx="6098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81080" y="5029200"/>
            <a:ext cx="6098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5105520"/>
            <a:ext cx="457200" cy="4572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2520" y="4648320"/>
            <a:ext cx="457200" cy="4572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4038480"/>
            <a:ext cx="457200" cy="4572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62520" y="3505320"/>
            <a:ext cx="457200" cy="4572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5562720"/>
            <a:ext cx="457200" cy="4572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008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21000" y="5562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e XPat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75248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escendant::a/child::b[descendant::c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following-sibling::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11320" y="4038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92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911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9112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286000" y="48769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1132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69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487692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026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0" y="5867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69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06200" y="609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2200" y="5105520"/>
            <a:ext cx="457200" cy="457200"/>
          </a:xfrm>
          <a:prstGeom prst="ellipse">
            <a:avLst/>
          </a:pr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72200" y="5105520"/>
            <a:ext cx="457200" cy="4572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992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1447920"/>
            <a:ext cx="6553440" cy="1676160"/>
          </a:xfrm>
          <a:prstGeom prst="ellipse">
            <a:avLst/>
          </a:pr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1371600"/>
            <a:ext cx="6705360" cy="18288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029200"/>
            <a:ext cx="6098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1447920"/>
            <a:ext cx="6553440" cy="16761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008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21000" y="5562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180360" y="914400"/>
            <a:ext cx="5840640" cy="1940760"/>
            <a:chOff x="180360" y="914400"/>
            <a:chExt cx="5840640" cy="1940760"/>
          </a:xfrm>
        </p:grpSpPr>
        <p:sp>
          <p:nvSpPr>
            <p:cNvPr id="352" name=""/>
            <p:cNvSpPr/>
            <p:nvPr/>
          </p:nvSpPr>
          <p:spPr>
            <a:xfrm>
              <a:off x="2096640" y="914400"/>
              <a:ext cx="102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pa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387080" y="1306440"/>
              <a:ext cx="114300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30440" y="1306440"/>
              <a:ext cx="990720" cy="56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3440" y="1760760"/>
              <a:ext cx="11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auth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93200" y="1800360"/>
              <a:ext cx="7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777600" y="2082600"/>
              <a:ext cx="53316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63760" y="2082600"/>
              <a:ext cx="533160" cy="42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0360" y="2395440"/>
              <a:ext cx="13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chand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53760" y="239544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merl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97120" y="2152800"/>
              <a:ext cx="0" cy="35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32760" y="239544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Conjunctive Queries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52280" y="76320"/>
            <a:ext cx="8915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rdered Trees as relational stru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4572000"/>
            <a:ext cx="137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143000" y="6629040"/>
            <a:ext cx="20574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24640" y="1295280"/>
            <a:ext cx="415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Child-relation is a priori unor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3160" y="41148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fc = firs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4419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ns = next sib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882240" y="3505320"/>
            <a:ext cx="5382000" cy="2288520"/>
            <a:chOff x="3882240" y="3505320"/>
            <a:chExt cx="5382000" cy="2288520"/>
          </a:xfrm>
        </p:grpSpPr>
        <p:sp>
          <p:nvSpPr>
            <p:cNvPr id="370" name=""/>
            <p:cNvSpPr/>
            <p:nvPr/>
          </p:nvSpPr>
          <p:spPr>
            <a:xfrm>
              <a:off x="6400800" y="3505320"/>
              <a:ext cx="1752480" cy="15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98880" y="3624120"/>
              <a:ext cx="102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pa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084280" y="4017960"/>
              <a:ext cx="1143000" cy="49356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4419720"/>
              <a:ext cx="11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auth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36440" y="4419720"/>
              <a:ext cx="7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34680" y="5334120"/>
              <a:ext cx="23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Conj. Queries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33840" y="4800600"/>
              <a:ext cx="6480" cy="660240"/>
            </a:xfrm>
            <a:custGeom>
              <a:avLst/>
              <a:gdLst/>
              <a:ahLst/>
              <a:rect l="l" t="t" r="r" b="b"/>
              <a:pathLst>
                <a:path w="4" h="416">
                  <a:moveTo>
                    <a:pt x="4" y="0"/>
                  </a:moveTo>
                  <a:lnTo>
                    <a:pt x="0" y="4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82240" y="5334120"/>
              <a:ext cx="13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chand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60720" y="533412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merl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49800" y="5562720"/>
              <a:ext cx="762120" cy="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73480" y="4648320"/>
              <a:ext cx="2286000" cy="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16680" y="4724280"/>
              <a:ext cx="1800" cy="730440"/>
            </a:xfrm>
            <a:custGeom>
              <a:avLst/>
              <a:gdLst/>
              <a:ahLst/>
              <a:rect l="l" t="t" r="r" b="b"/>
              <a:pathLst>
                <a:path w="1" h="460">
                  <a:moveTo>
                    <a:pt x="0" y="0"/>
                  </a:moveTo>
                  <a:lnTo>
                    <a:pt x="0" y="4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70360" y="4890960"/>
              <a:ext cx="38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Tahoma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50520" y="525780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Tahoma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27200" y="4052880"/>
              <a:ext cx="38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Tahoma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93640" y="4967280"/>
              <a:ext cx="38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Tahoma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74640" y="434340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Tahoma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6320" y="6019920"/>
            <a:ext cx="8991360" cy="6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n-GB" sz="2200" spc="-1" strike="noStrike" baseline="-25000">
                <a:solidFill>
                  <a:srgbClr val="ff0000"/>
                </a:solidFill>
                <a:latin typeface="Tahoma"/>
              </a:rPr>
              <a:t>U</a:t>
            </a:r>
            <a:r>
              <a:rPr b="1" lang="en-GB" sz="2200" spc="-1" strike="noStrike">
                <a:solidFill>
                  <a:srgbClr val="ff0000"/>
                </a:solidFill>
                <a:latin typeface="Tahoma"/>
              </a:rPr>
              <a:t>=&lt;firstchild</a:t>
            </a:r>
            <a:r>
              <a:rPr b="1" lang="en-GB" sz="22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en-GB" sz="2200" spc="-1" strike="noStrike">
                <a:solidFill>
                  <a:srgbClr val="ff0000"/>
                </a:solidFill>
                <a:latin typeface="Tahoma"/>
              </a:rPr>
              <a:t>, nextsibling</a:t>
            </a:r>
            <a:r>
              <a:rPr b="1" lang="en-GB" sz="22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en-GB" sz="2200" spc="-1" strike="noStrike">
                <a:solidFill>
                  <a:srgbClr val="ff0000"/>
                </a:solidFill>
                <a:latin typeface="Tahoma"/>
              </a:rPr>
              <a:t>, lastchild</a:t>
            </a:r>
            <a:r>
              <a:rPr b="1" lang="en-GB" sz="22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1" lang="en-GB" sz="2200" spc="-1" strike="noStrike">
                <a:solidFill>
                  <a:srgbClr val="ff0000"/>
                </a:solidFill>
                <a:latin typeface="Tahoma"/>
              </a:rPr>
              <a:t>, label[a]</a:t>
            </a:r>
            <a:r>
              <a:rPr b="1" lang="en-GB" sz="2200" spc="-1" strike="noStrike" baseline="30000">
                <a:solidFill>
                  <a:srgbClr val="ff0000"/>
                </a:solidFill>
                <a:latin typeface="Tahoma"/>
              </a:rPr>
              <a:t>1</a:t>
            </a:r>
            <a:r>
              <a:rPr b="1" lang="en-GB" sz="2200" spc="-1" strike="noStrike">
                <a:solidFill>
                  <a:srgbClr val="ff0000"/>
                </a:solidFill>
                <a:latin typeface="Tahoma"/>
              </a:rPr>
              <a:t>, root</a:t>
            </a:r>
            <a:r>
              <a:rPr b="1" lang="en-GB" sz="2200" spc="-1" strike="noStrike" baseline="30000">
                <a:solidFill>
                  <a:srgbClr val="ff0000"/>
                </a:solidFill>
                <a:latin typeface="Tahoma"/>
              </a:rPr>
              <a:t>1</a:t>
            </a:r>
            <a:r>
              <a:rPr b="1" lang="en-GB" sz="2200" spc="-1" strike="noStrike">
                <a:solidFill>
                  <a:srgbClr val="ff0000"/>
                </a:solidFill>
                <a:latin typeface="Tahoma"/>
              </a:rPr>
              <a:t>, leaf</a:t>
            </a:r>
            <a:r>
              <a:rPr b="1" lang="en-GB" sz="2200" spc="-1" strike="noStrike" baseline="30000">
                <a:solidFill>
                  <a:srgbClr val="ff0000"/>
                </a:solidFill>
                <a:latin typeface="Tahoma"/>
              </a:rPr>
              <a:t>1</a:t>
            </a:r>
            <a:r>
              <a:rPr b="1" lang="en-GB" sz="2200" spc="-1" strike="noStrike">
                <a:solidFill>
                  <a:srgbClr val="ff0000"/>
                </a:solidFill>
                <a:latin typeface="Tahoma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6177960" y="6491160"/>
            <a:ext cx="6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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is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is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xis can be defined as a restricted form of regular expressions over fc (“first child”), ns (“next sibling”) – both part of XML DOM; e.g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endant 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cestor :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endant-or-self := descendant    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-sibling := ns.n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:= (ancestor-or-self).following-       sibling.(descendant-or-sel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2895480" y="3857760"/>
                <a:ext cx="30481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∪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200400" y="3352680"/>
                <a:ext cx="22114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791320" y="4495680"/>
                <a:ext cx="4222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is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-time look-up of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ode    (bi-directional functional dependenc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ode is visited tw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node sets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t fie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de idx-&gt;{t,f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ng axis func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time O(|D|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895480" y="2514600"/>
                <a:ext cx="3962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3048120" y="5362560"/>
                <a:ext cx="2743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nodes</m:t>
                        </m:r>
                        <m:r>
                          <m:t xml:space="preserve">|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nodes</m:t>
                        </m:r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2362320" y="3106800"/>
                <a:ext cx="2635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nts of Par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45640" y="2666880"/>
            <a:ext cx="551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path 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xis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riments with curren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ynomial-time evaluation of Core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e XPath and data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ynomial-time evaluation of full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400800" y="4038480"/>
            <a:ext cx="106668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81680" y="457200"/>
            <a:ext cx="609840" cy="60948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15000" y="1143000"/>
            <a:ext cx="60948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80880" y="1828800"/>
                <a:ext cx="4260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cendant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 flipH="1">
            <a:off x="541008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220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199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6171840" y="914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38880" y="914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7543800" y="1600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29600" y="1600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708624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4380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36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90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90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789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96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264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170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98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978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36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6400800" y="3962520"/>
          <a:ext cx="1066680" cy="205560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7696080" y="3962520"/>
          <a:ext cx="1219320" cy="2568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"/>
          <p:cNvSpPr/>
          <p:nvPr/>
        </p:nvSpPr>
        <p:spPr>
          <a:xfrm>
            <a:off x="64018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97880" y="342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1600" y="2895480"/>
            <a:ext cx="27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ant({1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{2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57200" y="3581280"/>
                <a:ext cx="1633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 flipH="1">
            <a:off x="6095520" y="762120"/>
            <a:ext cx="76212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5715000" y="1143000"/>
            <a:ext cx="60948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380880" y="1828800"/>
                <a:ext cx="4260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cendant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 flipH="1">
            <a:off x="541008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7220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99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171840" y="914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38880" y="914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7543800" y="1600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229600" y="1600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708624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4380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36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690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8690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789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596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9264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3170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98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6978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36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6400800" y="3962520"/>
          <a:ext cx="1066680" cy="205560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7696080" y="3962520"/>
          <a:ext cx="1219320" cy="2568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>
            <a:off x="64018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97880" y="342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1600" y="2895480"/>
            <a:ext cx="27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ant({1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{2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457200" y="3581280"/>
                <a:ext cx="1633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7696080" y="3962520"/>
            <a:ext cx="12193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400800" y="4495680"/>
            <a:ext cx="106668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15000" y="1143000"/>
            <a:ext cx="609480" cy="60948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05520" y="1905120"/>
            <a:ext cx="60948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72400" y="1143000"/>
            <a:ext cx="60948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380880" y="1828800"/>
                <a:ext cx="4260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cendant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 flipH="1">
            <a:off x="541008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7220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199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171840" y="914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914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7543800" y="1600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29600" y="1600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708624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54380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936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8690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90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4789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596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9264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170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98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978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836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400800" y="3962520"/>
          <a:ext cx="1066680" cy="205560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7696080" y="3962520"/>
          <a:ext cx="1219320" cy="2568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64018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97880" y="342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1600" y="2895480"/>
            <a:ext cx="313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ant({1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{2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 6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457200" y="3581280"/>
                <a:ext cx="205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 flipH="1">
            <a:off x="5257800" y="1523880"/>
            <a:ext cx="38088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00800" y="144792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105520" y="1905120"/>
            <a:ext cx="60948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772400" y="1143000"/>
            <a:ext cx="60948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80880" y="1828800"/>
                <a:ext cx="4260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cendant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"/>
          <p:cNvSpPr/>
          <p:nvPr/>
        </p:nvSpPr>
        <p:spPr>
          <a:xfrm flipH="1">
            <a:off x="541008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7220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199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171840" y="914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38880" y="914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7543800" y="1600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229600" y="1600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708624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4380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36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90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690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789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2596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9264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170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598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978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836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6400800" y="3962520"/>
          <a:ext cx="1066680" cy="205560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7696080" y="3962520"/>
          <a:ext cx="1219320" cy="2568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>
            <a:off x="64018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97880" y="342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1600" y="2895480"/>
            <a:ext cx="313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ant({1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{2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 6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57200" y="3581280"/>
                <a:ext cx="205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7696080" y="4495680"/>
            <a:ext cx="12193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5029200"/>
            <a:ext cx="106668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1905120"/>
            <a:ext cx="609480" cy="60948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772400" y="1143000"/>
            <a:ext cx="609480" cy="60948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91320" y="1905120"/>
            <a:ext cx="60948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162920" y="1905120"/>
            <a:ext cx="60948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0880" y="1828800"/>
                <a:ext cx="4260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cendant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 flipH="1">
            <a:off x="541008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17220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99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6171840" y="914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38880" y="914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7543800" y="1600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229600" y="1600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708624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4380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6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690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90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89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2596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9264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70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98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978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3836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6400800" y="3962520"/>
          <a:ext cx="1066680" cy="205560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7696080" y="3962520"/>
          <a:ext cx="1219320" cy="2568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2" name=""/>
          <p:cNvSpPr/>
          <p:nvPr/>
        </p:nvSpPr>
        <p:spPr>
          <a:xfrm>
            <a:off x="64018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697880" y="342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1600" y="2895480"/>
            <a:ext cx="313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ant({1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{2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 6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 7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457200" y="3581280"/>
                <a:ext cx="205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 flipH="1">
            <a:off x="7391520" y="1523880"/>
            <a:ext cx="38088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10080" y="259092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5791320" y="1905120"/>
            <a:ext cx="60948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162920" y="1905120"/>
            <a:ext cx="60948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80880" y="1828800"/>
                <a:ext cx="4260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cendant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"/>
          <p:cNvSpPr/>
          <p:nvPr/>
        </p:nvSpPr>
        <p:spPr>
          <a:xfrm flipH="1">
            <a:off x="541008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17220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6171840" y="914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38880" y="914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7543800" y="1600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229600" y="1600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708624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54380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36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8690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690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789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596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9264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3170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8598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978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836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6400800" y="3962520"/>
          <a:ext cx="1066680" cy="205560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7696080" y="3962520"/>
          <a:ext cx="1219320" cy="2568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3" name=""/>
          <p:cNvSpPr/>
          <p:nvPr/>
        </p:nvSpPr>
        <p:spPr>
          <a:xfrm>
            <a:off x="64018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97880" y="342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1600" y="2895480"/>
            <a:ext cx="313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ant({1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{2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 6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 7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457200" y="3581280"/>
                <a:ext cx="205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7696080" y="5029200"/>
            <a:ext cx="12193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00800" y="5562720"/>
            <a:ext cx="106668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96080" y="5562720"/>
            <a:ext cx="12193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91320" y="1905120"/>
            <a:ext cx="609480" cy="60948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162920" y="1905120"/>
            <a:ext cx="609480" cy="60948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324480" y="1905120"/>
            <a:ext cx="60984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905120"/>
            <a:ext cx="60948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2590920"/>
            <a:ext cx="60948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380880" y="1828800"/>
                <a:ext cx="4260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cendant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 flipH="1">
            <a:off x="541008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17220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199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6171840" y="914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238880" y="914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543800" y="1600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229600" y="1600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08624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54380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936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8690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90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789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596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9264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170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98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978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3836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6400800" y="3962520"/>
          <a:ext cx="1066680" cy="205560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7696080" y="3962520"/>
          <a:ext cx="1219320" cy="2568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"/>
          <p:cNvSpPr/>
          <p:nvPr/>
        </p:nvSpPr>
        <p:spPr>
          <a:xfrm>
            <a:off x="64018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697880" y="342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81600" y="2895480"/>
            <a:ext cx="313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ant({1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{2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 6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 7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5, 8, 10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457200" y="3581280"/>
                <a:ext cx="205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6019920" y="25909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96080" y="220968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6934320" y="2209680"/>
            <a:ext cx="30456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6324480" y="1905120"/>
            <a:ext cx="60984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305920" y="1905120"/>
            <a:ext cx="60948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2590920"/>
            <a:ext cx="60948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380880" y="1828800"/>
                <a:ext cx="4260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cendant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 flipH="1">
            <a:off x="541008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17220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199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6171840" y="914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238880" y="914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7543800" y="1600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229600" y="1600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08624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936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8690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8690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789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2596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9264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3170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98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6978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836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6400800" y="3962520"/>
          <a:ext cx="1066680" cy="205560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7696080" y="3962520"/>
          <a:ext cx="1219320" cy="2568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64018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97880" y="342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1600" y="2895480"/>
            <a:ext cx="313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ant({1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{2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 6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 7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5, 8, 10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457200" y="3581280"/>
                <a:ext cx="205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7696080" y="6019920"/>
            <a:ext cx="12193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05720" y="2590920"/>
            <a:ext cx="609480" cy="60948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43800" y="2590920"/>
            <a:ext cx="60948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380880" y="1828800"/>
                <a:ext cx="4260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cendant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 flipH="1">
            <a:off x="541008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7220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199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6171840" y="914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38880" y="914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7543800" y="1600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229600" y="1600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708624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54380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936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8690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690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4789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596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9264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170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8598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6978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836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6400800" y="3962520"/>
          <a:ext cx="1066680" cy="205560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7696080" y="3962520"/>
          <a:ext cx="1219320" cy="2568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1" name=""/>
          <p:cNvSpPr/>
          <p:nvPr/>
        </p:nvSpPr>
        <p:spPr>
          <a:xfrm>
            <a:off x="64018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97880" y="342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1600" y="2895480"/>
            <a:ext cx="313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ant({1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{2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 6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 7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5, 8, 10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457200" y="3581280"/>
                <a:ext cx="205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7086600" y="32767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7543800" y="2590920"/>
            <a:ext cx="609480" cy="609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80880" y="1828800"/>
                <a:ext cx="42609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cendant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9" name=""/>
          <p:cNvSpPr/>
          <p:nvPr/>
        </p:nvSpPr>
        <p:spPr>
          <a:xfrm flipH="1">
            <a:off x="541008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172200" y="1600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199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6171840" y="9144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238880" y="914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7543800" y="1600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229600" y="1600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08624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54380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93612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8690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8690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4789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2596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264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3170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98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978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38368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6400800" y="3962520"/>
          <a:ext cx="1066680" cy="205560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9" name=""/>
          <p:cNvGraphicFramePr/>
          <p:nvPr/>
        </p:nvGraphicFramePr>
        <p:xfrm>
          <a:off x="7696080" y="3962520"/>
          <a:ext cx="1219320" cy="2568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0" name=""/>
          <p:cNvSpPr/>
          <p:nvPr/>
        </p:nvSpPr>
        <p:spPr>
          <a:xfrm>
            <a:off x="640188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697880" y="342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1600" y="2895480"/>
            <a:ext cx="313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ant({1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{2}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 6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 7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5, 8, 10}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457200" y="3581280"/>
                <a:ext cx="2057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)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76520" y="129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69640" y="914400"/>
            <a:ext cx="7055280" cy="30200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is not an Xpath language 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tax and semantics of XPath not defin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l explanations via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: Xpath is treated in full detail in our pap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omit most credits and citations (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ap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120" y="5267160"/>
            <a:ext cx="58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pers &amp; software: www.xmltaskforc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ments with curren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STATS%5EUI" descr=""/>
          <p:cNvPicPr/>
          <p:nvPr/>
        </p:nvPicPr>
        <p:blipFill>
          <a:blip r:embed="rId1"/>
          <a:stretch/>
        </p:blipFill>
        <p:spPr>
          <a:xfrm>
            <a:off x="2800440" y="0"/>
            <a:ext cx="6114960" cy="576108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212760" y="6248520"/>
            <a:ext cx="18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5867280"/>
            <a:ext cx="914400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e Xpath on Xalan and 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ries: a/b/parent::a/b/…parent::a/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43000" y="2225520"/>
            <a:ext cx="2245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exponenti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19960" y="2971800"/>
            <a:ext cx="2235240" cy="7059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a&gt;&lt;b/&gt;&lt;b/&gt;&lt;/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ie6_ex2" descr=""/>
          <p:cNvPicPr/>
          <p:nvPr/>
        </p:nvPicPr>
        <p:blipFill>
          <a:blip r:embed="rId1"/>
          <a:stretch/>
        </p:blipFill>
        <p:spPr>
          <a:xfrm>
            <a:off x="3276720" y="98280"/>
            <a:ext cx="5657760" cy="546444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270160" y="-136440"/>
            <a:ext cx="18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5557680"/>
            <a:ext cx="9144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e Xpath on Microsoft IE6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ynomial combined complexi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dratic data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541040" y="1886040"/>
            <a:ext cx="1771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quadr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ie6_ex5" descr=""/>
          <p:cNvPicPr/>
          <p:nvPr/>
        </p:nvPicPr>
        <p:blipFill>
          <a:blip r:embed="rId1"/>
          <a:stretch/>
        </p:blipFill>
        <p:spPr>
          <a:xfrm>
            <a:off x="2819520" y="114480"/>
            <a:ext cx="6675480" cy="628632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0" y="1143000"/>
            <a:ext cx="312408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XPath on IE6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bi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plexity!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onential quer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roclocstep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5143680" cy="26100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5334120" y="2438280"/>
            <a:ext cx="3581280" cy="129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06480" y="2514600"/>
            <a:ext cx="357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th Query (relative to 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::*/parent::*/child::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::*/child::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91320" y="1219320"/>
            <a:ext cx="29718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15600" y="16765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lt;a&gt; &lt;b/&gt; &lt;c/&gt; 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019560" y="129528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068480" y="3809880"/>
            <a:ext cx="5268960" cy="2745720"/>
            <a:chOff x="1068480" y="3809880"/>
            <a:chExt cx="5268960" cy="2745720"/>
          </a:xfrm>
        </p:grpSpPr>
        <p:sp>
          <p:nvSpPr>
            <p:cNvPr id="733" name=""/>
            <p:cNvSpPr/>
            <p:nvPr/>
          </p:nvSpPr>
          <p:spPr>
            <a:xfrm>
              <a:off x="3583080" y="3809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5520" y="4267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53960" y="4267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3516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49720" y="510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20600" y="5105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49360" y="563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8480" y="609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29880" y="6095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20960" y="563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440080" y="609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201480" y="6095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468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268880" y="510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639760" y="5105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268880" y="563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88000" y="609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9400" y="6095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640480" y="563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59600" y="609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21000" y="6095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437920" y="4191120"/>
              <a:ext cx="11430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86200" y="4191120"/>
              <a:ext cx="106668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286000" y="4648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1752480" y="510552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438280" y="510552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00200" y="54864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1371240" y="60199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52480" y="60199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71800" y="54864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2742840" y="60199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24080" y="60199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05160" y="46483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4572000" y="510552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257800" y="510552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19360" y="54864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4190760" y="601992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572000" y="60199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90960" y="54864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5562360" y="601992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943600" y="60199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209680" y="3962520"/>
              <a:ext cx="1371600" cy="3808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57400" y="4495680"/>
              <a:ext cx="0" cy="3812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1675800" y="4952880"/>
              <a:ext cx="381240" cy="1526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447560" y="5410080"/>
              <a:ext cx="0" cy="457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1218600" y="5867280"/>
              <a:ext cx="228600" cy="2286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47560" y="6324480"/>
              <a:ext cx="3812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057400" y="5409720"/>
              <a:ext cx="761760" cy="8384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19160" y="5486400"/>
              <a:ext cx="0" cy="3808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590200" y="5867280"/>
              <a:ext cx="228600" cy="2286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43200" y="6324480"/>
              <a:ext cx="457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29000" y="4571640"/>
              <a:ext cx="1523880" cy="16002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52880" y="4648320"/>
              <a:ext cx="0" cy="3045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4572000" y="5029200"/>
              <a:ext cx="304560" cy="1522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343400" y="5486400"/>
              <a:ext cx="0" cy="3049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4114440" y="5867280"/>
              <a:ext cx="228600" cy="2286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190760" y="6324480"/>
              <a:ext cx="457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4952880" y="5409720"/>
              <a:ext cx="685800" cy="7621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638680" y="5486400"/>
              <a:ext cx="0" cy="3049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5486040" y="5867280"/>
              <a:ext cx="228600" cy="2286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562360" y="6324480"/>
              <a:ext cx="533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4" name="fig5-detail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429680" cy="61740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6400800" y="4191120"/>
            <a:ext cx="253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of nodes visited is of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477120" y="5029200"/>
                <a:ext cx="12952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-time Bottom-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of Core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 paths and conditions consisting of boolean combinations of path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e Xpath Algebra, using oper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sets of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es can be evaluated on node set in time O(|D|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peration can be carried out in time O(|D|), if suitable data data structures are used (e.g. bit-vectors for nodes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e Xpath runs in time O(|D|*|Q|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1147680" y="2711520"/>
                <a:ext cx="77677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dom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dom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∪</m:t>
                    </m:r>
                    <m:r>
                      <m:t xml:space="preserve">,</m:t>
                    </m:r>
                    <m:r>
                      <m:t xml:space="preserve">∩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dom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dom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dom</m:t>
                        </m:r>
                      </m:sup>
                    </m:sSup>
                    <m:r>
                      <m:t xml:space="preserve">;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Σ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do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example83" descr=""/>
          <p:cNvPicPr/>
          <p:nvPr/>
        </p:nvPicPr>
        <p:blipFill>
          <a:blip r:embed="rId1"/>
          <a:stretch/>
        </p:blipFill>
        <p:spPr>
          <a:xfrm>
            <a:off x="2819520" y="1387440"/>
            <a:ext cx="6227640" cy="501336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232200" y="457200"/>
            <a:ext cx="89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descendant::a/child::b[child::c/child::d or not(following::*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908400" y="1828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Query tr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example83" descr=""/>
          <p:cNvPicPr/>
          <p:nvPr/>
        </p:nvPicPr>
        <p:blipFill>
          <a:blip r:embed="rId1"/>
          <a:stretch/>
        </p:blipFill>
        <p:spPr>
          <a:xfrm>
            <a:off x="2840040" y="1387440"/>
            <a:ext cx="6227640" cy="501336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232200" y="457200"/>
            <a:ext cx="89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descendant::a/child::b[child::c/child::d or not(following::*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04600" y="16002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1: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429840" y="1943280"/>
            <a:ext cx="60948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7680" y="2185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2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80840" y="2171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6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238040" y="2185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8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39680" y="1943280"/>
            <a:ext cx="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039680" y="1943280"/>
            <a:ext cx="38124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41560" y="2719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3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75080" y="2705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7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232280" y="2719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9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53800" y="3252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4: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41560" y="3786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5: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3020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6372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2092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30200" y="308628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30200" y="361944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760" y="42670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Docu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908400" y="1828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Query tr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example83" descr=""/>
          <p:cNvPicPr/>
          <p:nvPr/>
        </p:nvPicPr>
        <p:blipFill>
          <a:blip r:embed="rId1"/>
          <a:stretch/>
        </p:blipFill>
        <p:spPr>
          <a:xfrm>
            <a:off x="2840040" y="1387440"/>
            <a:ext cx="6227640" cy="501336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232200" y="457200"/>
            <a:ext cx="89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descendant::a/child::b[child::c/child::d or not(following::*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04600" y="16002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1: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429840" y="1943280"/>
            <a:ext cx="60948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47680" y="2185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2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80840" y="2171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6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238040" y="2185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8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39680" y="1943280"/>
            <a:ext cx="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039680" y="1943280"/>
            <a:ext cx="38124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41560" y="2719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3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75080" y="2705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7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232280" y="2719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9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3800" y="3252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4: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41560" y="3786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5: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3020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96372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42092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30200" y="308628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0200" y="361944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367800" y="618660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379760" y="54100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2,6,8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7760" y="42670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Docu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908400" y="1828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Query tr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9720" y="54100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,4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860160" y="6248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5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68480" y="54864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,2,3,4,5,6,7,8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970160" y="374796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3,7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XPath Basic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example83" descr=""/>
          <p:cNvPicPr/>
          <p:nvPr/>
        </p:nvPicPr>
        <p:blipFill>
          <a:blip r:embed="rId1"/>
          <a:stretch/>
        </p:blipFill>
        <p:spPr>
          <a:xfrm>
            <a:off x="2840040" y="1387440"/>
            <a:ext cx="6227640" cy="501336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232200" y="457200"/>
            <a:ext cx="89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descendant::a/child::b[child::c/child::d or not(following::*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04600" y="16002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1: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429840" y="1943280"/>
            <a:ext cx="60948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47680" y="2185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2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80840" y="2171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6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238040" y="2185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8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039680" y="1943280"/>
            <a:ext cx="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039680" y="1943280"/>
            <a:ext cx="38124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41560" y="2719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3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75080" y="2705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7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232280" y="2719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9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3800" y="3252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4: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41560" y="3786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5: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3020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6372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42092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30200" y="308628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30200" y="361944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367800" y="618660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379760" y="54100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2,6,8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7760" y="42670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Docu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908400" y="1828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Query tr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589720" y="54100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,4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60160" y="6248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5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368480" y="54864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,2,3,4,5,6,7,8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230680" y="39625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2,3,6,7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304680" y="51195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4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968120" y="487692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2,3,4,5,6,7,8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970160" y="374796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3,7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example83" descr=""/>
          <p:cNvPicPr/>
          <p:nvPr/>
        </p:nvPicPr>
        <p:blipFill>
          <a:blip r:embed="rId1"/>
          <a:stretch/>
        </p:blipFill>
        <p:spPr>
          <a:xfrm>
            <a:off x="2840040" y="1387440"/>
            <a:ext cx="6227640" cy="501336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232200" y="457200"/>
            <a:ext cx="89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descendant::a/child::b[child::c/child::d or not(following::*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04600" y="16002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1: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429840" y="1943280"/>
            <a:ext cx="60948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7680" y="2185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2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80840" y="2171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6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238040" y="2185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8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039680" y="1943280"/>
            <a:ext cx="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039680" y="1943280"/>
            <a:ext cx="38124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41560" y="2719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3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75080" y="2705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7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32280" y="2719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9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53800" y="3252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4: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1560" y="3786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5: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3020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96372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42092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30200" y="308628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30200" y="361944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67800" y="618660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379760" y="54100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2,6,8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7760" y="42670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Docu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908400" y="1828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Query tr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589720" y="54100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,4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60160" y="6248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5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368480" y="54864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,2,3,4,5,6,7,8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230680" y="39625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2,3,6,7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773120" y="342900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,4,5,8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304680" y="51195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4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945760" y="42670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4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098040" y="320040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968120" y="487692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2,3,4,5,6,7,8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354120" y="42670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2,6,8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125520" y="34290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3,7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970160" y="374796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3,7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example83" descr=""/>
          <p:cNvPicPr/>
          <p:nvPr/>
        </p:nvPicPr>
        <p:blipFill>
          <a:blip r:embed="rId1"/>
          <a:stretch/>
        </p:blipFill>
        <p:spPr>
          <a:xfrm>
            <a:off x="2840040" y="1387440"/>
            <a:ext cx="6227640" cy="501336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232200" y="457200"/>
            <a:ext cx="89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descendant::a/child::b[child::c/child::d or not(following::*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04600" y="16002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1: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429840" y="1943280"/>
            <a:ext cx="60948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47680" y="2185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2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0840" y="2171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6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38040" y="2185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8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039680" y="1943280"/>
            <a:ext cx="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039680" y="1943280"/>
            <a:ext cx="38124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41560" y="2719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3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75080" y="2705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7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232280" y="2719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9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53800" y="3252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4: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41560" y="3786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5: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3020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96372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2092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30200" y="308628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30200" y="361944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367800" y="618660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379760" y="54100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2,6,8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7760" y="42670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Docu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908400" y="1828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Query tr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589720" y="54100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,4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860160" y="6248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5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368480" y="54864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,2,3,4,5,6,7,8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230680" y="39625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2,3,6,7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773120" y="342900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,4,5,8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304680" y="51195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4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945760" y="42670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4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098040" y="320040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131240" y="260496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,3,4,5,8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68120" y="487692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2,3,4,5,6,7,8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354120" y="42670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2,6,8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125520" y="34290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3,7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70160" y="374796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3,7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903480" y="259092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3,7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example83" descr=""/>
          <p:cNvPicPr/>
          <p:nvPr/>
        </p:nvPicPr>
        <p:blipFill>
          <a:blip r:embed="rId1"/>
          <a:stretch/>
        </p:blipFill>
        <p:spPr>
          <a:xfrm>
            <a:off x="2840040" y="1387440"/>
            <a:ext cx="6227640" cy="501336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32200" y="457200"/>
            <a:ext cx="89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descendant::a/child::b[child::c/child::d or not(following::*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04600" y="16002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1: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429840" y="1943280"/>
            <a:ext cx="60948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7680" y="2185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2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80840" y="2171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6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238040" y="2185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8: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39680" y="1943280"/>
            <a:ext cx="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39680" y="1943280"/>
            <a:ext cx="381240" cy="30456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41560" y="2719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3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75080" y="2705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7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232280" y="2719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9: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53800" y="3252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4: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1560" y="3786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5: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3020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96372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20920" y="255276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30200" y="308628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30200" y="3619440"/>
            <a:ext cx="0" cy="2286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367800" y="618660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379760" y="54100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2,6,8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7760" y="42670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Docu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08400" y="1828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Query tre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589720" y="54100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,4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860160" y="6248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5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368480" y="54864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,2,3,4,5,6,7,8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230680" y="39625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2,3,6,7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773120" y="342900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,4,5,8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304680" y="51195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4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945760" y="42670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4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98040" y="320040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131240" y="260496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1,3,4,5,8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968120" y="487692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2,3,4,5,6,7,8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54120" y="42670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2,6,8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125520" y="34290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3,7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970160" y="374796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3,7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03480" y="259092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3,7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666040" y="123336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{3,9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fig4" descr=""/>
          <p:cNvPicPr/>
          <p:nvPr/>
        </p:nvPicPr>
        <p:blipFill>
          <a:blip r:embed="rId1"/>
          <a:stretch/>
        </p:blipFill>
        <p:spPr>
          <a:xfrm>
            <a:off x="2381400" y="1467000"/>
            <a:ext cx="4381200" cy="392400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/>
          <p:nvPr/>
        </p:nvSpPr>
        <p:spPr>
          <a:xfrm>
            <a:off x="2893680" y="6094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6 (native code, Windo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983880" y="5791320"/>
            <a:ext cx="715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re Xpath query (below, size 3. Size in experiment: 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//b[ancestor::a//b[ancestor::a//b[ancestor::a//b]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733920" y="53341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document size – number of “b” no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629400" y="2971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Quadratic-time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e XPath &amp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adic Datalog Ove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nadic Datalog over 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263680" y="4997520"/>
            <a:ext cx="5426280" cy="950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lect titles of articles auth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y Chandra and M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180360" y="1066680"/>
            <a:ext cx="8277840" cy="2669760"/>
            <a:chOff x="180360" y="1066680"/>
            <a:chExt cx="8277840" cy="2669760"/>
          </a:xfrm>
        </p:grpSpPr>
        <p:sp>
          <p:nvSpPr>
            <p:cNvPr id="1000" name=""/>
            <p:cNvSpPr/>
            <p:nvPr/>
          </p:nvSpPr>
          <p:spPr>
            <a:xfrm>
              <a:off x="2698920" y="1447920"/>
              <a:ext cx="1752480" cy="152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096640" y="1566720"/>
              <a:ext cx="102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pa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1382400" y="1960560"/>
              <a:ext cx="1143000" cy="49356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36240" y="2362320"/>
              <a:ext cx="11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auth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34560" y="2362320"/>
              <a:ext cx="7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32800" y="3276720"/>
              <a:ext cx="23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Conj. Queries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31960" y="2743200"/>
              <a:ext cx="6120" cy="660240"/>
            </a:xfrm>
            <a:custGeom>
              <a:avLst/>
              <a:gdLst/>
              <a:ahLst/>
              <a:rect l="l" t="t" r="r" b="b"/>
              <a:pathLst>
                <a:path w="4" h="416">
                  <a:moveTo>
                    <a:pt x="4" y="0"/>
                  </a:moveTo>
                  <a:lnTo>
                    <a:pt x="0" y="416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0360" y="3276720"/>
              <a:ext cx="13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chand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58480" y="327672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merl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447920" y="3505320"/>
              <a:ext cx="761760" cy="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371600" y="2590920"/>
              <a:ext cx="2286000" cy="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114800" y="2666880"/>
              <a:ext cx="1440" cy="730440"/>
            </a:xfrm>
            <a:custGeom>
              <a:avLst/>
              <a:gdLst/>
              <a:ahLst/>
              <a:rect l="l" t="t" r="r" b="b"/>
              <a:pathLst>
                <a:path w="1" h="460">
                  <a:moveTo>
                    <a:pt x="0" y="0"/>
                  </a:moveTo>
                  <a:lnTo>
                    <a:pt x="0" y="460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68120" y="2833560"/>
              <a:ext cx="38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Tahoma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448640" y="320040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Tahoma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524960" y="1995480"/>
              <a:ext cx="38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Tahoma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91400" y="2909880"/>
              <a:ext cx="38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Tahoma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72400" y="228600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Tahoma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19040" y="1066680"/>
              <a:ext cx="14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paper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48120" y="1430280"/>
              <a:ext cx="1060200" cy="398520"/>
            </a:xfrm>
            <a:custGeom>
              <a:avLst/>
              <a:gdLst/>
              <a:ahLst/>
              <a:rect l="l" t="t" r="r" b="b"/>
              <a:pathLst>
                <a:path w="668" h="251">
                  <a:moveTo>
                    <a:pt x="668" y="0"/>
                  </a:moveTo>
                  <a:lnTo>
                    <a:pt x="0" y="251"/>
                  </a:lnTo>
                </a:path>
              </a:pathLst>
            </a:custGeom>
            <a:noFill/>
            <a:ln w="9360">
              <a:solidFill>
                <a:srgbClr val="33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44400" y="1295280"/>
              <a:ext cx="38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Tahoma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71800" y="1905120"/>
              <a:ext cx="2286000" cy="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84360" y="1600200"/>
              <a:ext cx="102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pa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172200" y="1905120"/>
              <a:ext cx="2286000" cy="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15520" y="1641600"/>
              <a:ext cx="446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Tahoma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020720" y="1641600"/>
              <a:ext cx="446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Tahoma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nadic Datalog over 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698920" y="1447920"/>
            <a:ext cx="175248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096640" y="15667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382400" y="1960560"/>
            <a:ext cx="1143000" cy="49356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36240" y="236232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634560" y="236232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232800" y="327672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j. Queri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31960" y="2743200"/>
            <a:ext cx="6120" cy="660240"/>
          </a:xfrm>
          <a:custGeom>
            <a:avLst/>
            <a:gdLst/>
            <a:ahLst/>
            <a:rect l="l" t="t" r="r" b="b"/>
            <a:pathLst>
              <a:path w="4" h="416">
                <a:moveTo>
                  <a:pt x="4" y="0"/>
                </a:moveTo>
                <a:lnTo>
                  <a:pt x="0" y="416"/>
                </a:lnTo>
              </a:path>
            </a:pathLst>
          </a:custGeom>
          <a:noFill/>
          <a:ln w="9360">
            <a:solidFill>
              <a:srgbClr val="33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80360" y="32767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hand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058480" y="32767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447920" y="3505320"/>
            <a:ext cx="76176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71600" y="2590920"/>
            <a:ext cx="228600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114800" y="2666880"/>
            <a:ext cx="1440" cy="730440"/>
          </a:xfrm>
          <a:custGeom>
            <a:avLst/>
            <a:gdLst/>
            <a:ahLst/>
            <a:rect l="l" t="t" r="r" b="b"/>
            <a:pathLst>
              <a:path w="1" h="460">
                <a:moveTo>
                  <a:pt x="0" y="0"/>
                </a:moveTo>
                <a:lnTo>
                  <a:pt x="0" y="460"/>
                </a:lnTo>
              </a:path>
            </a:pathLst>
          </a:custGeom>
          <a:noFill/>
          <a:ln w="9360">
            <a:solidFill>
              <a:srgbClr val="33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768120" y="28335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448640" y="32004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524960" y="19954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91400" y="29098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372400" y="22860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019040" y="106668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per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048120" y="1430280"/>
            <a:ext cx="1060200" cy="398520"/>
          </a:xfrm>
          <a:custGeom>
            <a:avLst/>
            <a:gdLst/>
            <a:ahLst/>
            <a:rect l="l" t="t" r="r" b="b"/>
            <a:pathLst>
              <a:path w="668" h="251">
                <a:moveTo>
                  <a:pt x="668" y="0"/>
                </a:moveTo>
                <a:lnTo>
                  <a:pt x="0" y="251"/>
                </a:lnTo>
              </a:path>
            </a:pathLst>
          </a:custGeom>
          <a:noFill/>
          <a:ln w="9360">
            <a:solidFill>
              <a:srgbClr val="33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344400" y="12952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71800" y="1905120"/>
            <a:ext cx="228600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184360" y="16002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72200" y="1905120"/>
            <a:ext cx="228600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115520" y="1641600"/>
            <a:ext cx="446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429000" y="4329000"/>
            <a:ext cx="5410080" cy="24692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per(X)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root(R) &amp; firstchild(R,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per(X)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paper(Y)  &amp;  nextsibling(Y,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tput(X)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paper(P)  &amp;  firstchild(P,A)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irstchild(A,Z)  &amp;  label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Chandr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Z)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xtsibling(Z,V)  &amp;  label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Merli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V)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xtsibling(A,T)  &amp;  firstchild(T,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020720" y="1641600"/>
            <a:ext cx="446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0" y="120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expressive is monadic Datalo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90720" y="3965400"/>
            <a:ext cx="7619760" cy="592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 Monadic Datalog = M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6320" y="1066680"/>
            <a:ext cx="906768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was known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adic Datalo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M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atalog  = 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9480" y="305100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G. &amp; K. 2002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62120" y="5181480"/>
            <a:ext cx="8030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nary query is definable in MSO iff it is definable via a monadic datalog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0" y="120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complex is Monadic Datalo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66880" y="4038480"/>
            <a:ext cx="5334120" cy="21718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adic Datalog over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ahoma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d complexity: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(|data|</a:t>
            </a:r>
            <a:r>
              <a:rPr b="0" lang="en-US" sz="3200" spc="-1" strike="noStrike" baseline="-6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|query|)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6320" y="6381720"/>
            <a:ext cx="9067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ry Complexity:  P-complete and linear-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62120" y="5181480"/>
            <a:ext cx="8030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-76320" y="320040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G. &amp; K. 2002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6320" y="1066680"/>
            <a:ext cx="906768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ly known facts on full Datalog over Grap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lexity of Datalog: P-complete (impl. in [Vardi 88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ed Complexity EXPTIME-complete (impl. [Vardi 88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. Compl. of sirups: EXPTIME-cplt. ([G.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padimitriou 99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0" y="6172200"/>
            <a:ext cx="7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03240" y="331956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per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08200" y="3700440"/>
            <a:ext cx="1506600" cy="1000080"/>
          </a:xfrm>
          <a:custGeom>
            <a:avLst/>
            <a:gdLst/>
            <a:ahLst/>
            <a:rect l="l" t="t" r="r" b="b"/>
            <a:pathLst>
              <a:path w="949" h="630">
                <a:moveTo>
                  <a:pt x="949" y="0"/>
                </a:moveTo>
                <a:lnTo>
                  <a:pt x="0" y="63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3700440"/>
            <a:ext cx="2971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64520" y="4572000"/>
            <a:ext cx="5840640" cy="2059920"/>
            <a:chOff x="164520" y="4572000"/>
            <a:chExt cx="5840640" cy="2059920"/>
          </a:xfrm>
        </p:grpSpPr>
        <p:sp>
          <p:nvSpPr>
            <p:cNvPr id="55" name=""/>
            <p:cNvSpPr/>
            <p:nvPr/>
          </p:nvSpPr>
          <p:spPr>
            <a:xfrm>
              <a:off x="2080800" y="4572000"/>
              <a:ext cx="102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pa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371240" y="499572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14600" y="4995720"/>
              <a:ext cx="9907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7600" y="5486400"/>
              <a:ext cx="11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auth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77360" y="5529240"/>
              <a:ext cx="7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61760" y="583416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7920" y="583416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520" y="6172200"/>
              <a:ext cx="13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chand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37920" y="617220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merl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1280" y="59101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16920" y="617220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Conjunctive Queries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7278120" y="47671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43520" y="563868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58840" y="560556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59864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763120" y="59864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3240" y="6248520"/>
            <a:ext cx="7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7800" y="5224320"/>
            <a:ext cx="444600" cy="484200"/>
          </a:xfrm>
          <a:custGeom>
            <a:avLst/>
            <a:gdLst/>
            <a:ahLst/>
            <a:rect l="l" t="t" r="r" b="b"/>
            <a:pathLst>
              <a:path w="280" h="305">
                <a:moveTo>
                  <a:pt x="280" y="0"/>
                </a:moveTo>
                <a:lnTo>
                  <a:pt x="0" y="30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48720" y="514836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37767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377676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85520" y="43434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0640" y="1031760"/>
            <a:ext cx="30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XML 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255600"/>
            <a:ext cx="5334120" cy="25628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&lt;paperDB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&lt;pap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           </a:t>
            </a: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&lt;author&gt; &lt;chandra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                             </a:t>
            </a: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&lt;merlin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            </a:t>
            </a: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&lt;/autho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             </a:t>
            </a: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&lt;title “Conjunctive Queries”/&gt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   </a:t>
            </a: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&lt;/pap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       …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9900"/>
                </a:solidFill>
                <a:latin typeface="Tahoma"/>
              </a:rPr>
              <a:t>&lt;/paperDB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7632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of id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762120"/>
            <a:ext cx="9144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.)  Transform datalog program + input tree in linea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me into a “ground”  propositional logic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95280" y="1905120"/>
            <a:ext cx="784872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loit functional dependencies:</a:t>
            </a:r>
            <a:r>
              <a:rPr b="0" lang="en-GB" sz="2400" spc="-1" strike="noStrike">
                <a:solidFill>
                  <a:srgbClr val="0099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extsibling(X,Y)</a:t>
            </a:r>
            <a:r>
              <a:rPr b="0" lang="en-GB" sz="24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as only a linea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Tahoma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f ground instances:</a:t>
            </a:r>
            <a:r>
              <a:rPr b="0" lang="en-GB" sz="24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extsibling(n</a:t>
            </a:r>
            <a:r>
              <a:rPr b="0" lang="en-GB" sz="24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,n</a:t>
            </a:r>
            <a:r>
              <a:rPr b="0" lang="en-GB" sz="2400" spc="-1" strike="noStrike" baseline="-25000">
                <a:solidFill>
                  <a:srgbClr val="ff0000"/>
                </a:solidFill>
                <a:latin typeface="Tahoma"/>
              </a:rPr>
              <a:t>j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en-GB" sz="2400" spc="-1" strike="noStrike">
                <a:solidFill>
                  <a:srgbClr val="009900"/>
                </a:solidFill>
                <a:latin typeface="Tahoma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couple independent atoms of rule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349440" y="4119480"/>
            <a:ext cx="5499360" cy="368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Tahoma"/>
              </a:rPr>
              <a:t>p(X) </a:t>
            </a:r>
            <a:r>
              <a:rPr b="1" lang="en-GB" sz="2000" spc="-1" strike="noStrike">
                <a:solidFill>
                  <a:srgbClr val="009900"/>
                </a:solidFill>
                <a:latin typeface="Wingdings"/>
                <a:ea typeface="Wingdings"/>
              </a:rPr>
              <a:t></a:t>
            </a:r>
            <a:r>
              <a:rPr b="1" lang="en-GB" sz="2000" spc="-1" strike="noStrike">
                <a:solidFill>
                  <a:srgbClr val="009900"/>
                </a:solidFill>
                <a:latin typeface="Tahoma"/>
              </a:rPr>
              <a:t>q(X) &amp; r(Y)  &amp; nextsibling(X,Z) &amp; s(Z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303720" y="4927680"/>
            <a:ext cx="5101560" cy="705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Tahoma"/>
              </a:rPr>
              <a:t>p(X) </a:t>
            </a:r>
            <a:r>
              <a:rPr b="1" lang="en-GB" sz="2000" spc="-1" strike="noStrike">
                <a:solidFill>
                  <a:srgbClr val="009900"/>
                </a:solidFill>
                <a:latin typeface="Wingdings"/>
                <a:ea typeface="Wingdings"/>
              </a:rPr>
              <a:t></a:t>
            </a:r>
            <a:r>
              <a:rPr b="1" lang="en-GB" sz="2000" spc="-1" strike="noStrike">
                <a:solidFill>
                  <a:srgbClr val="009900"/>
                </a:solidFill>
                <a:latin typeface="Tahoma"/>
              </a:rPr>
              <a:t>q(X) &amp; r &amp; nextsibling(X,Z) &amp; s(Z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Tahoma"/>
              </a:rPr>
              <a:t>      </a:t>
            </a:r>
            <a:r>
              <a:rPr b="1" lang="en-GB" sz="2000" spc="-1" strike="noStrike">
                <a:solidFill>
                  <a:srgbClr val="009900"/>
                </a:solidFill>
                <a:latin typeface="Tahoma"/>
              </a:rPr>
              <a:t>r </a:t>
            </a:r>
            <a:r>
              <a:rPr b="1" lang="en-GB" sz="2000" spc="-1" strike="noStrike">
                <a:solidFill>
                  <a:srgbClr val="009900"/>
                </a:solidFill>
                <a:latin typeface="Wingdings"/>
                <a:ea typeface="Wingdings"/>
              </a:rPr>
              <a:t></a:t>
            </a:r>
            <a:r>
              <a:rPr b="1" lang="en-GB" sz="2000" spc="-1" strike="noStrike">
                <a:solidFill>
                  <a:srgbClr val="009900"/>
                </a:solidFill>
                <a:latin typeface="Tahoma"/>
              </a:rPr>
              <a:t> r(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0" y="591192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.)  Execute ground program in linear time by u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ll-known algorithms: [Dowling&amp;Gallier] [Minoux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1080" y="4267080"/>
            <a:ext cx="533520" cy="1067040"/>
          </a:xfrm>
          <a:custGeom>
            <a:avLst/>
            <a:gdLst>
              <a:gd name="textAreaLeft" fmla="*/ 71280 w 533520"/>
              <a:gd name="textAreaRight" fmla="*/ 462240 w 53352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752480" y="4191120"/>
            <a:ext cx="838440" cy="1143000"/>
          </a:xfrm>
          <a:custGeom>
            <a:avLst/>
            <a:gdLst>
              <a:gd name="textAreaLeft" fmla="*/ 112320 w 838440"/>
              <a:gd name="textAreaRight" fmla="*/ 726120 w 83844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314440" y="4191120"/>
            <a:ext cx="733680" cy="1371600"/>
          </a:xfrm>
          <a:custGeom>
            <a:avLst/>
            <a:gdLst>
              <a:gd name="textAreaLeft" fmla="*/ 98280 w 733680"/>
              <a:gd name="textAreaRight" fmla="*/ 635400 w 7336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0" y="120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junctive queries with a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52280" y="4768920"/>
            <a:ext cx="8839440" cy="950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ng  conjunctive queries with 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 trees is NP-complete    (query complex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62120" y="5181480"/>
            <a:ext cx="8030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-76320" y="4038480"/>
            <a:ext cx="861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orem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Meuss, Schulz, Bry ’01] [G.&amp;K.’02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1035000"/>
            <a:ext cx="9144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Q:    conjunction of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oms  and of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rresponding to derived 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2362320"/>
            <a:ext cx="8686800" cy="140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r>
              <a:rPr b="1" lang="en-GB" sz="2200" spc="-1" strike="noStrike">
                <a:solidFill>
                  <a:srgbClr val="009900"/>
                </a:solidFill>
                <a:latin typeface="Tahoma"/>
              </a:rPr>
              <a:t>:    nextsibling(X,Z) &amp; descendant(Z,U)  &amp;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9900"/>
                </a:solidFill>
                <a:latin typeface="Tahoma"/>
              </a:rPr>
              <a:t>                            </a:t>
            </a:r>
            <a:r>
              <a:rPr b="1" lang="en-GB" sz="2200" spc="-1" strike="noStrike">
                <a:solidFill>
                  <a:srgbClr val="009900"/>
                </a:solidFill>
                <a:latin typeface="Tahoma"/>
              </a:rPr>
              <a:t>ancestor(U,V) &amp;  label</a:t>
            </a:r>
            <a:r>
              <a:rPr b="1" lang="en-GB" sz="2200" spc="-1" strike="noStrike" baseline="-25000">
                <a:solidFill>
                  <a:srgbClr val="009900"/>
                </a:solidFill>
                <a:latin typeface="Tahoma"/>
              </a:rPr>
              <a:t>a </a:t>
            </a:r>
            <a:r>
              <a:rPr b="1" lang="en-GB" sz="2200" spc="-1" strike="noStrike">
                <a:solidFill>
                  <a:srgbClr val="009900"/>
                </a:solidFill>
                <a:latin typeface="Tahoma"/>
              </a:rPr>
              <a:t>(V) &amp; child(V,X)  &amp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9900"/>
                </a:solidFill>
                <a:latin typeface="Tahoma"/>
              </a:rPr>
              <a:t>                                      </a:t>
            </a:r>
            <a:r>
              <a:rPr b="1" lang="en-GB" sz="2200" spc="-1" strike="noStrike">
                <a:solidFill>
                  <a:srgbClr val="009900"/>
                </a:solidFill>
                <a:latin typeface="Tahoma"/>
              </a:rPr>
              <a:t>(firstchild.firstchild</a:t>
            </a:r>
            <a:r>
              <a:rPr b="1" lang="en-GB" sz="2200" spc="-1" strike="noStrike">
                <a:solidFill>
                  <a:srgbClr val="009900"/>
                </a:solidFill>
                <a:latin typeface="Symbol"/>
                <a:ea typeface="Symbol"/>
              </a:rPr>
              <a:t></a:t>
            </a:r>
            <a:r>
              <a:rPr b="1" lang="en-GB" sz="2200" spc="-1" strike="noStrike">
                <a:solidFill>
                  <a:srgbClr val="009900"/>
                </a:solidFill>
                <a:latin typeface="Tahoma"/>
              </a:rPr>
              <a:t>firstchild</a:t>
            </a:r>
            <a:r>
              <a:rPr b="1" lang="en-GB" sz="2200" spc="-1" strike="noStrike" baseline="30000">
                <a:solidFill>
                  <a:srgbClr val="009900"/>
                </a:solidFill>
                <a:latin typeface="Tahoma"/>
              </a:rPr>
              <a:t>-1</a:t>
            </a:r>
            <a:r>
              <a:rPr b="1" lang="en-GB" sz="2200" spc="-1" strike="noStrike">
                <a:solidFill>
                  <a:srgbClr val="009900"/>
                </a:solidFill>
                <a:latin typeface="Tahoma"/>
              </a:rPr>
              <a:t>)(U,X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0" y="120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junctive queries with a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2280" y="4768920"/>
            <a:ext cx="8839440" cy="950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ng  conjunctive queries with 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 trees is NP-complete    (query complex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62120" y="5181480"/>
            <a:ext cx="8030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-76320" y="403848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1035000"/>
            <a:ext cx="9144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Q:    conjunction of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oms  and of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rresponding to derived 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0" y="2362320"/>
            <a:ext cx="8686800" cy="140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r>
              <a:rPr b="1" lang="en-GB" sz="2200" spc="-1" strike="noStrike">
                <a:solidFill>
                  <a:srgbClr val="009900"/>
                </a:solidFill>
                <a:latin typeface="Tahoma"/>
              </a:rPr>
              <a:t>:    nextsibling(X,Z) &amp; descendant(Z,U)  &amp;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9900"/>
                </a:solidFill>
                <a:latin typeface="Tahoma"/>
              </a:rPr>
              <a:t>                            </a:t>
            </a:r>
            <a:r>
              <a:rPr b="1" lang="en-GB" sz="2200" spc="-1" strike="noStrike">
                <a:solidFill>
                  <a:srgbClr val="009900"/>
                </a:solidFill>
                <a:latin typeface="Tahoma"/>
              </a:rPr>
              <a:t>ancestor(U,V) &amp;  label</a:t>
            </a:r>
            <a:r>
              <a:rPr b="1" lang="en-GB" sz="2200" spc="-1" strike="noStrike" baseline="-25000">
                <a:solidFill>
                  <a:srgbClr val="009900"/>
                </a:solidFill>
                <a:latin typeface="Tahoma"/>
              </a:rPr>
              <a:t>a </a:t>
            </a:r>
            <a:r>
              <a:rPr b="1" lang="en-GB" sz="2200" spc="-1" strike="noStrike">
                <a:solidFill>
                  <a:srgbClr val="009900"/>
                </a:solidFill>
                <a:latin typeface="Tahoma"/>
              </a:rPr>
              <a:t>(V) &amp; child(V,X)  &amp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9900"/>
                </a:solidFill>
                <a:latin typeface="Tahoma"/>
              </a:rPr>
              <a:t>                                      </a:t>
            </a:r>
            <a:r>
              <a:rPr b="1" lang="en-GB" sz="2200" spc="-1" strike="noStrike">
                <a:solidFill>
                  <a:srgbClr val="009900"/>
                </a:solidFill>
                <a:latin typeface="Tahoma"/>
              </a:rPr>
              <a:t>(firstchild.firstchild</a:t>
            </a:r>
            <a:r>
              <a:rPr b="1" lang="en-GB" sz="2200" spc="-1" strike="noStrike">
                <a:solidFill>
                  <a:srgbClr val="009900"/>
                </a:solidFill>
                <a:latin typeface="Symbol"/>
                <a:ea typeface="Symbol"/>
              </a:rPr>
              <a:t></a:t>
            </a:r>
            <a:r>
              <a:rPr b="1" lang="en-GB" sz="2200" spc="-1" strike="noStrike">
                <a:solidFill>
                  <a:srgbClr val="009900"/>
                </a:solidFill>
                <a:latin typeface="Tahoma"/>
              </a:rPr>
              <a:t>firstchild</a:t>
            </a:r>
            <a:r>
              <a:rPr b="1" lang="en-GB" sz="2200" spc="-1" strike="noStrike" baseline="30000">
                <a:solidFill>
                  <a:srgbClr val="009900"/>
                </a:solidFill>
                <a:latin typeface="Tahoma"/>
              </a:rPr>
              <a:t>-1</a:t>
            </a:r>
            <a:r>
              <a:rPr b="1" lang="en-GB" sz="2200" spc="-1" strike="noStrike">
                <a:solidFill>
                  <a:srgbClr val="009900"/>
                </a:solidFill>
                <a:latin typeface="Tahoma"/>
              </a:rPr>
              <a:t>)(U,X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-216720" y="6264360"/>
            <a:ext cx="9201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However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XPath more akin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acyclic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conjunctive quer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-76320" y="120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yclic conjunctive queries with a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52280" y="1828800"/>
            <a:ext cx="8839440" cy="9554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ng  acyclic conjunctive queries with 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 trees is feasible in time O(|data|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query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62120" y="5181480"/>
            <a:ext cx="8030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-76320" y="106668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-136080" y="3048120"/>
            <a:ext cx="8053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of ide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e acyclic qery into monad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talog program over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690560" y="495288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descenda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0760" y="43434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child(A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71160" y="548640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descendant(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777480" y="6248520"/>
            <a:ext cx="1213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label</a:t>
            </a:r>
            <a:r>
              <a:rPr b="1" lang="en-GB" sz="2000" spc="-1" strike="noStrike" baseline="-25000">
                <a:solidFill>
                  <a:srgbClr val="669900"/>
                </a:solidFill>
                <a:latin typeface="Tahoma"/>
              </a:rPr>
              <a:t>a</a:t>
            </a: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20480" y="5867280"/>
            <a:ext cx="1227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label</a:t>
            </a:r>
            <a:r>
              <a:rPr b="1" lang="en-GB" sz="2000" spc="-1" strike="noStrike" baseline="-25000">
                <a:solidFill>
                  <a:srgbClr val="669900"/>
                </a:solidFill>
                <a:latin typeface="Tahoma"/>
              </a:rPr>
              <a:t>b</a:t>
            </a: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143000" y="4724280"/>
            <a:ext cx="1143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65160" y="5257800"/>
            <a:ext cx="1397160" cy="604800"/>
          </a:xfrm>
          <a:custGeom>
            <a:avLst/>
            <a:gdLst/>
            <a:ahLst/>
            <a:rect l="l" t="t" r="r" b="b"/>
            <a:pathLst>
              <a:path w="880" h="381">
                <a:moveTo>
                  <a:pt x="880" y="0"/>
                </a:moveTo>
                <a:lnTo>
                  <a:pt x="0" y="3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438280" y="5257800"/>
            <a:ext cx="381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971800" y="586728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-76320" y="120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yclic conjunctive queries with a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52280" y="1828800"/>
            <a:ext cx="8839440" cy="9554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ng  acyclic conjunctive queries with 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 trees is feasible in time O(|data|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query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62120" y="5181480"/>
            <a:ext cx="8030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-76320" y="106668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-136080" y="3063960"/>
            <a:ext cx="8053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of ide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e acyclic qery into monad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talog program over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690560" y="495288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descenda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00760" y="43434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child(A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171160" y="548640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descendant(Y,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Z</a:t>
            </a: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777480" y="6248520"/>
            <a:ext cx="1213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label</a:t>
            </a:r>
            <a:r>
              <a:rPr b="1" lang="en-GB" sz="2000" spc="-1" strike="noStrike" baseline="-25000">
                <a:solidFill>
                  <a:srgbClr val="669900"/>
                </a:solidFill>
                <a:latin typeface="Tahoma"/>
              </a:rPr>
              <a:t>a</a:t>
            </a: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20480" y="5867280"/>
            <a:ext cx="1227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label</a:t>
            </a:r>
            <a:r>
              <a:rPr b="1" lang="en-GB" sz="2000" spc="-1" strike="noStrike" baseline="-25000">
                <a:solidFill>
                  <a:srgbClr val="669900"/>
                </a:solidFill>
                <a:latin typeface="Tahoma"/>
              </a:rPr>
              <a:t>b</a:t>
            </a: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143000" y="4724280"/>
            <a:ext cx="1143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965160" y="5257800"/>
            <a:ext cx="1397160" cy="604800"/>
          </a:xfrm>
          <a:custGeom>
            <a:avLst/>
            <a:gdLst/>
            <a:ahLst/>
            <a:rect l="l" t="t" r="r" b="b"/>
            <a:pathLst>
              <a:path w="880" h="381">
                <a:moveTo>
                  <a:pt x="880" y="0"/>
                </a:moveTo>
                <a:lnTo>
                  <a:pt x="0" y="3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438280" y="5257800"/>
            <a:ext cx="381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971800" y="586728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4419360" y="5029200"/>
            <a:ext cx="68580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181480" y="4191120"/>
            <a:ext cx="3886200" cy="2410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r atom which contains an 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iable that otherwise occ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monadic atoms on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definable as (unary) MSO-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hus expressible by a monad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log program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-76320" y="120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yclic conjunctive queries with a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52280" y="1828800"/>
            <a:ext cx="8839440" cy="9554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ng  acyclic conjunctive queries with 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 trees is feasible in time O(|data|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query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62120" y="5181480"/>
            <a:ext cx="8030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-76320" y="106668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-136080" y="3063960"/>
            <a:ext cx="8053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of ide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e acyclic qery into monad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talog program over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90560" y="495288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descenda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0760" y="43434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child(A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71160" y="548640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descendant(Y,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Z</a:t>
            </a: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777480" y="6248520"/>
            <a:ext cx="1213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label</a:t>
            </a:r>
            <a:r>
              <a:rPr b="1" lang="en-GB" sz="2000" spc="-1" strike="noStrike" baseline="-25000">
                <a:solidFill>
                  <a:srgbClr val="669900"/>
                </a:solidFill>
                <a:latin typeface="Tahoma"/>
              </a:rPr>
              <a:t>a</a:t>
            </a: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20480" y="5867280"/>
            <a:ext cx="1227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label</a:t>
            </a:r>
            <a:r>
              <a:rPr b="1" lang="en-GB" sz="2000" spc="-1" strike="noStrike" baseline="-25000">
                <a:solidFill>
                  <a:srgbClr val="669900"/>
                </a:solidFill>
                <a:latin typeface="Tahoma"/>
              </a:rPr>
              <a:t>b</a:t>
            </a: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143000" y="4724280"/>
            <a:ext cx="1143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965160" y="5257800"/>
            <a:ext cx="1397160" cy="604800"/>
          </a:xfrm>
          <a:custGeom>
            <a:avLst/>
            <a:gdLst/>
            <a:ahLst/>
            <a:rect l="l" t="t" r="r" b="b"/>
            <a:pathLst>
              <a:path w="880" h="381">
                <a:moveTo>
                  <a:pt x="880" y="0"/>
                </a:moveTo>
                <a:lnTo>
                  <a:pt x="0" y="3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438280" y="5257800"/>
            <a:ext cx="381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971800" y="586728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952880" y="4424400"/>
            <a:ext cx="4114800" cy="140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(Y) &lt;- firstchild(Y,Z) &amp; aa(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a(Z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labe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a(Z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aa(V) &amp; nextsibling(Z,V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a(Z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aa(V) &amp; firstchild(Z,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-76320" y="120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yclic conjunctive queries with a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52280" y="1828800"/>
            <a:ext cx="8839440" cy="9554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ng  acyclic conjunctive queries with 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 trees is feasible in time O(|data|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query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62120" y="5181480"/>
            <a:ext cx="8030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-76320" y="106668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-136080" y="3063960"/>
            <a:ext cx="8053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of ide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e acyclic qery into monad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talog program over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90560" y="495288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descenda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00760" y="43434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child(A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91760" y="557676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     </a:t>
            </a: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d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20480" y="5867280"/>
            <a:ext cx="1227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label</a:t>
            </a:r>
            <a:r>
              <a:rPr b="1" lang="en-GB" sz="2000" spc="-1" strike="noStrike" baseline="-25000">
                <a:solidFill>
                  <a:srgbClr val="669900"/>
                </a:solidFill>
                <a:latin typeface="Tahoma"/>
              </a:rPr>
              <a:t>b</a:t>
            </a: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143000" y="4724280"/>
            <a:ext cx="1143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965160" y="5257800"/>
            <a:ext cx="1397160" cy="604800"/>
          </a:xfrm>
          <a:custGeom>
            <a:avLst/>
            <a:gdLst/>
            <a:ahLst/>
            <a:rect l="l" t="t" r="r" b="b"/>
            <a:pathLst>
              <a:path w="880" h="381">
                <a:moveTo>
                  <a:pt x="880" y="0"/>
                </a:moveTo>
                <a:lnTo>
                  <a:pt x="0" y="3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438280" y="5257800"/>
            <a:ext cx="381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952880" y="4424400"/>
            <a:ext cx="4114800" cy="140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(Y) &lt;- firstchild(Y,Z) &amp; aa(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a(Z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labe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a(Z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aa(V) &amp; nextsibling(Z,V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a(Z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aa(V) &amp; firstchild(Z,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-76320" y="120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yclic conjunctive queries with a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52280" y="1828800"/>
            <a:ext cx="8839440" cy="9554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ng  acyclic conjunctive queries with 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 trees is feasible in time O(|data|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query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120" y="5181480"/>
            <a:ext cx="8030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-76320" y="106668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-136080" y="3063960"/>
            <a:ext cx="8053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oof ide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late acyclic qery into monad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talog program over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90920" y="4952880"/>
            <a:ext cx="22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descendant(X,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00760" y="43434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child(A,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291760" y="557676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     </a:t>
            </a: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d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20480" y="5867280"/>
            <a:ext cx="1227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label</a:t>
            </a:r>
            <a:r>
              <a:rPr b="1" lang="en-GB" sz="2000" spc="-1" strike="noStrike" baseline="-25000">
                <a:solidFill>
                  <a:srgbClr val="669900"/>
                </a:solidFill>
                <a:latin typeface="Tahoma"/>
              </a:rPr>
              <a:t>b</a:t>
            </a:r>
            <a:r>
              <a:rPr b="1" lang="en-GB" sz="2000" spc="-1" strike="noStrike">
                <a:solidFill>
                  <a:srgbClr val="669900"/>
                </a:solidFill>
                <a:latin typeface="Tahoma"/>
              </a:rPr>
              <a:t>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143000" y="4724280"/>
            <a:ext cx="1143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965160" y="5257800"/>
            <a:ext cx="1397160" cy="604800"/>
          </a:xfrm>
          <a:custGeom>
            <a:avLst/>
            <a:gdLst/>
            <a:ahLst/>
            <a:rect l="l" t="t" r="r" b="b"/>
            <a:pathLst>
              <a:path w="880" h="381">
                <a:moveTo>
                  <a:pt x="880" y="0"/>
                </a:moveTo>
                <a:lnTo>
                  <a:pt x="0" y="3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438280" y="5257800"/>
            <a:ext cx="381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038120" y="4800600"/>
            <a:ext cx="76212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952880" y="4191120"/>
            <a:ext cx="3353040" cy="1745280"/>
          </a:xfrm>
          <a:prstGeom prst="rect">
            <a:avLst/>
          </a:prstGeom>
          <a:solidFill>
            <a:srgbClr val="fffc6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r at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inue eliminating ear ato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til query is entirely monadi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-76320" y="120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yclic Monadic Datalog with A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62120" y="3016080"/>
            <a:ext cx="7619760" cy="1339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ng  AMX-datalog programs over tr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feasible in time O(|data|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program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62120" y="5029200"/>
            <a:ext cx="8030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-76320" y="228924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1111320"/>
            <a:ext cx="89312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AMX-Datalog: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adic datalog programs w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le bodies are acyclic and may contain arbitrary 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0" y="442260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ar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62120" y="5181480"/>
            <a:ext cx="693396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ame bound for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stratifie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AMX-Data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MX-Datalog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express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MSO over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ahoma"/>
              </a:rPr>
              <a:t>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both without and with stratification)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-76320" y="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e XPath in Linear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133720" y="914400"/>
            <a:ext cx="6858000" cy="1339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ng  core-XPath  queries over tr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feasible in time O(|data|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query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-76320" y="83808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0" y="2133720"/>
            <a:ext cx="868680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of:  Linear translation from Core XPa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(stratified) Monadic Datalog + 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6560"/>
            <a:ext cx="2057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5181480"/>
            <a:ext cx="8030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1960" y="3886200"/>
            <a:ext cx="7567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//paper[author[chandra and merlin]]/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257800"/>
            <a:ext cx="83059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ahoma"/>
              </a:rPr>
              <a:t>/descendant::paper[child::author[child::chandra a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r>
              <a:rPr b="1" lang="en-GB" sz="1900" spc="-1" strike="noStrike">
                <a:solidFill>
                  <a:srgbClr val="000000"/>
                </a:solidFill>
                <a:latin typeface="Tahoma"/>
              </a:rPr>
              <a:t>child::merlin]]/child::tit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20" y="4648320"/>
            <a:ext cx="4749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Unabbreviated syntax with explicit </a:t>
            </a:r>
            <a:r>
              <a:rPr b="1" lang="en-GB" sz="1900" spc="-1" strike="noStrike">
                <a:solidFill>
                  <a:srgbClr val="000000"/>
                </a:solidFill>
                <a:latin typeface="Tahoma"/>
              </a:rPr>
              <a:t>axes</a:t>
            </a: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000" y="6335640"/>
            <a:ext cx="872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/descendant::chandra/following-sibling::merlin/ancestor::paper/child::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047600"/>
            <a:ext cx="184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4400" y="1066680"/>
            <a:ext cx="229752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3C-standar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ernel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XSLT, XQU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71360" y="2970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85320" y="108432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per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17800" y="1389240"/>
            <a:ext cx="1043280" cy="533160"/>
          </a:xfrm>
          <a:custGeom>
            <a:avLst/>
            <a:gdLst/>
            <a:ahLst/>
            <a:rect l="l" t="t" r="r" b="b"/>
            <a:pathLst>
              <a:path w="949" h="630">
                <a:moveTo>
                  <a:pt x="949" y="0"/>
                </a:moveTo>
                <a:lnTo>
                  <a:pt x="0" y="63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84800" y="1389240"/>
            <a:ext cx="2362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19280" y="184644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827440" y="2151000"/>
            <a:ext cx="83808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17800" y="2151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83920" y="2347920"/>
            <a:ext cx="87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72120" y="2379600"/>
            <a:ext cx="60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17240" y="26082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86120" y="2581200"/>
            <a:ext cx="474480" cy="40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840" y="287964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hand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0160" y="288144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mer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9920" y="26845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81960" y="287964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junctive Queri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05200" y="199872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a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79680" y="2649600"/>
            <a:ext cx="87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50480" y="2629080"/>
            <a:ext cx="60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4120" y="2989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55040" y="2989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1880" y="30160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13480" y="2303640"/>
            <a:ext cx="354240" cy="290160"/>
          </a:xfrm>
          <a:custGeom>
            <a:avLst/>
            <a:gdLst/>
            <a:ahLst/>
            <a:rect l="l" t="t" r="r" b="b"/>
            <a:pathLst>
              <a:path w="280" h="305">
                <a:moveTo>
                  <a:pt x="280" y="0"/>
                </a:moveTo>
                <a:lnTo>
                  <a:pt x="0" y="30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27840" y="2257560"/>
            <a:ext cx="606600" cy="32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81680" y="1434960"/>
            <a:ext cx="0" cy="5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64200" y="1434960"/>
            <a:ext cx="665280" cy="503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60160" y="187308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2840" y="5902200"/>
            <a:ext cx="423000" cy="501120"/>
            <a:chOff x="222840" y="5902200"/>
            <a:chExt cx="423000" cy="501120"/>
          </a:xfrm>
        </p:grpSpPr>
        <p:sp>
          <p:nvSpPr>
            <p:cNvPr id="114" name=""/>
            <p:cNvSpPr/>
            <p:nvPr/>
          </p:nvSpPr>
          <p:spPr>
            <a:xfrm>
              <a:off x="222840" y="59022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1760" y="59436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5050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-76320" y="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e XPath in Linear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133720" y="914400"/>
            <a:ext cx="6858000" cy="1339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ing  core-XPath  queries over tr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feasible in time O(|data|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query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-76320" y="838080"/>
            <a:ext cx="7620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91600" y="2286000"/>
            <a:ext cx="8267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//paper[author[chandra and not merlin]]/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52280" y="3352680"/>
            <a:ext cx="8839440" cy="3224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tput(X)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root(R) &amp; descendant(R,P)  &amp; label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paperr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P) &amp; qual1(P) 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hild(P,X) &amp; label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titl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X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al1(X)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child(X,Y) &amp; label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author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Y) &amp; qual2(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al2(X)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child(X,Y) &amp; label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chandr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Y) &amp;  not  qual3(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al3(X)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child(X,M) &amp;  label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merli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M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5181480" y="1600200"/>
            <a:ext cx="3048120" cy="4876920"/>
          </a:xfrm>
          <a:prstGeom prst="ellipse">
            <a:avLst/>
          </a:prstGeom>
          <a:solidFill>
            <a:srgbClr val="ff9999">
              <a:alpha val="50000"/>
            </a:srgbClr>
          </a:solidFill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172200" y="3124080"/>
            <a:ext cx="1676520" cy="2057400"/>
          </a:xfrm>
          <a:prstGeom prst="ellipse">
            <a:avLst/>
          </a:prstGeom>
          <a:solidFill>
            <a:srgbClr val="33333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dicate Logic and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590920" y="3505320"/>
            <a:ext cx="4038480" cy="1371600"/>
          </a:xfrm>
          <a:prstGeom prst="ellipse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219320" y="2362320"/>
            <a:ext cx="7238880" cy="350496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269960" y="2362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402960" y="19810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ll 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x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80880" y="114300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XPath expressions are evaluated w.r.t.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ex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text: &lt;x, k, n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de    position   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3580920" y="2438280"/>
            <a:ext cx="685800" cy="53352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48320" y="2438280"/>
            <a:ext cx="0" cy="45720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29200" y="2438280"/>
            <a:ext cx="762120" cy="53352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52280" y="3733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values specify a current “situation” in which a query or subquery should be evalu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ermined by preceding XSL or Xpath comp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809880" y="5105520"/>
            <a:ext cx="198144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{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75000" y="5181480"/>
            <a:ext cx="30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eviously computed node-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4266720" y="5562720"/>
            <a:ext cx="685800" cy="761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37640" y="6033960"/>
            <a:ext cx="28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tinuation of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804480" y="6121440"/>
            <a:ext cx="12524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GB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,3,4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26320" y="5942160"/>
            <a:ext cx="35366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This is the context 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used for the further query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Starting at n</a:t>
            </a:r>
            <a:r>
              <a:rPr b="0" lang="en-GB" sz="18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3733560" y="5562720"/>
            <a:ext cx="53316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4114800" y="5562720"/>
            <a:ext cx="533520" cy="380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2431080" y="205740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&gt; &lt;b/&gt; &lt;c/&gt; &lt;b/&gt; &lt;c/&gt; 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7240" y="137160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doc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87692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2514600" cy="1787400"/>
          </a:xfrm>
          <a:prstGeom prst="rect">
            <a:avLst/>
          </a:prstGeom>
          <a:ln w="0">
            <a:noFill/>
          </a:ln>
        </p:spPr>
      </p:pic>
      <p:sp>
        <p:nvSpPr>
          <p:cNvPr id="1199" name=""/>
          <p:cNvSpPr/>
          <p:nvPr/>
        </p:nvSpPr>
        <p:spPr>
          <a:xfrm>
            <a:off x="686160" y="4724280"/>
            <a:ext cx="552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qu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ld::b/following::*[position() &gt; 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748880" y="380880"/>
            <a:ext cx="62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ample of an Xpath query not in Core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2431080" y="205740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&gt; &lt;b/&gt; &lt;c/&gt; &lt;b/&gt; &lt;c/&gt; 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87240" y="137160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doc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87692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4" name=""/>
          <p:cNvGraphicFramePr/>
          <p:nvPr/>
        </p:nvGraphicFramePr>
        <p:xfrm>
          <a:off x="3048120" y="2590920"/>
          <a:ext cx="2514600" cy="17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590920"/>
                    <a:ext cx="251460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6" name=""/>
          <p:cNvSpPr/>
          <p:nvPr/>
        </p:nvSpPr>
        <p:spPr>
          <a:xfrm>
            <a:off x="686160" y="4724280"/>
            <a:ext cx="552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qu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ld::b/following::*[position() &gt; 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748880" y="380880"/>
            <a:ext cx="62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ample of an Xpath query not in Core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rot="16265400">
            <a:off x="2058840" y="4571280"/>
            <a:ext cx="228600" cy="2819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rot="16177200">
            <a:off x="4843440" y="4757040"/>
            <a:ext cx="215640" cy="2438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065960" y="617220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result node-sets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705480" y="6248520"/>
            <a:ext cx="52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Times New Roman"/>
              </a:rPr>
              <a:t>evaluated for each x</a:t>
            </a:r>
            <a:r>
              <a:rPr b="1" lang="en-GB" sz="2000" spc="-1" strike="noStrike">
                <a:solidFill>
                  <a:srgbClr val="ff5050"/>
                </a:solidFill>
                <a:latin typeface="Symbol"/>
                <a:ea typeface="Symbol"/>
              </a:rPr>
              <a:t></a:t>
            </a:r>
            <a:r>
              <a:rPr b="1" lang="en-GB" sz="2000" spc="-1" strike="noStrike">
                <a:solidFill>
                  <a:srgbClr val="ff5050"/>
                </a:solidFill>
                <a:latin typeface="Times New Roman"/>
              </a:rPr>
              <a:t> S, w.r.t context of x in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5257800" y="3352320"/>
            <a:ext cx="13716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257800" y="4191120"/>
            <a:ext cx="1447920" cy="380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504040" y="33177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494680" y="4267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GB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579360" y="3124080"/>
            <a:ext cx="120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&lt;c</a:t>
            </a:r>
            <a:r>
              <a:rPr b="0" lang="en-GB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,3,3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636600" y="4343400"/>
            <a:ext cx="120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&lt;c</a:t>
            </a:r>
            <a:r>
              <a:rPr b="0" lang="en-GB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,2,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table4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629240" cy="3936960"/>
          </a:xfrm>
          <a:prstGeom prst="rect">
            <a:avLst/>
          </a:prstGeom>
          <a:ln w="0">
            <a:noFill/>
          </a:ln>
        </p:spPr>
      </p:pic>
      <p:pic>
        <p:nvPicPr>
          <p:cNvPr id="1219" name="def61-detail1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401320" cy="685800"/>
          </a:xfrm>
          <a:prstGeom prst="rect">
            <a:avLst/>
          </a:prstGeom>
          <a:ln w="0">
            <a:noFill/>
          </a:ln>
        </p:spPr>
      </p:pic>
      <p:pic>
        <p:nvPicPr>
          <p:cNvPr id="1220" name="def61-detail2" descr=""/>
          <p:cNvPicPr/>
          <p:nvPr/>
        </p:nvPicPr>
        <p:blipFill>
          <a:blip r:embed="rId3"/>
          <a:stretch/>
        </p:blipFill>
        <p:spPr>
          <a:xfrm>
            <a:off x="1676520" y="5562720"/>
            <a:ext cx="6019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Formal Semantics of Xpath Relational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2" name="table2b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500688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d. Semantics of Location Pa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fig5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705720" cy="3541680"/>
          </a:xfrm>
          <a:prstGeom prst="rect">
            <a:avLst/>
          </a:prstGeom>
          <a:ln w="0">
            <a:noFill/>
          </a:ln>
        </p:spPr>
      </p:pic>
      <p:sp>
        <p:nvSpPr>
          <p:cNvPr id="1225" name=""/>
          <p:cNvSpPr/>
          <p:nvPr/>
        </p:nvSpPr>
        <p:spPr>
          <a:xfrm>
            <a:off x="1371600" y="2209680"/>
            <a:ext cx="6705720" cy="3124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371600" y="5257800"/>
            <a:ext cx="6705720" cy="5335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46520" y="6321600"/>
            <a:ext cx="74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Times New Roman"/>
              </a:rPr>
              <a:t>First formal semantics of a relevant fragment of XPath: Phil Wadler 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-value Tables (CV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types of valu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set, num, str, bo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for each XPath express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V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0" name=""/>
          <p:cNvGraphicFramePr/>
          <p:nvPr/>
        </p:nvGraphicFramePr>
        <p:xfrm>
          <a:off x="1828800" y="5273640"/>
          <a:ext cx="61722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273640"/>
                    <a:ext cx="6172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e Xpath: A logically clean core of X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914400"/>
            <a:ext cx="9067680" cy="26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location steps  </a:t>
            </a:r>
            <a:r>
              <a:rPr b="0" lang="en-US" sz="2800" spc="-1" strike="noStrike">
                <a:solidFill>
                  <a:srgbClr val="ccccff"/>
                </a:solidFill>
                <a:latin typeface="Tahoma"/>
              </a:rPr>
              <a:t>paper/title   </a:t>
            </a:r>
            <a:r>
              <a:rPr b="0" lang="en-US" sz="2800" spc="-1" strike="noStrike">
                <a:solidFill>
                  <a:srgbClr val="808080"/>
                </a:solidFill>
                <a:latin typeface="Tahoma"/>
              </a:rPr>
              <a:t>(incl. node te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. steps with explicit axes </a:t>
            </a:r>
            <a:r>
              <a:rPr b="0" lang="en-US" sz="2800" spc="-1" strike="noStrike">
                <a:solidFill>
                  <a:srgbClr val="ccccff"/>
                </a:solidFill>
                <a:latin typeface="Tahoma"/>
              </a:rPr>
              <a:t>paper/descendant::m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s (predicates)       </a:t>
            </a:r>
            <a:r>
              <a:rPr b="0" lang="en-US" sz="2800" spc="-1" strike="noStrike">
                <a:solidFill>
                  <a:srgbClr val="ccccff"/>
                </a:solidFill>
                <a:latin typeface="Tahoma"/>
              </a:rPr>
              <a:t>paper[…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lean logic  </a:t>
            </a:r>
            <a:r>
              <a:rPr b="0" lang="en-US" sz="2800" spc="-1" strike="noStrike">
                <a:solidFill>
                  <a:srgbClr val="ccccff"/>
                </a:solidFill>
                <a:latin typeface="Tahoma"/>
              </a:rPr>
              <a:t>...[chandra and merlin and (not harel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360" y="3376440"/>
            <a:ext cx="2622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ull Xpath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3994200"/>
            <a:ext cx="9067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t comparisons, functions,  and operations</a:t>
            </a:r>
            <a:r>
              <a:rPr b="0" lang="en-US" sz="2800" spc="-1" strike="noStrike">
                <a:solidFill>
                  <a:srgbClr val="ccc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 functions (first, last, position) 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15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ithmetic and strin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716440"/>
            <a:ext cx="9144000" cy="10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lementation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context of XSLT  processo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en-US" sz="2200" spc="-1" strike="noStrike">
                <a:solidFill>
                  <a:srgbClr val="ccccff"/>
                </a:solidFill>
                <a:latin typeface="Tahoma"/>
              </a:rPr>
              <a:t>Xalan, XT, MS Internet Explorer </a:t>
            </a:r>
            <a:r>
              <a:rPr b="0" lang="en-US" sz="2200" spc="-1" strike="noStrike">
                <a:solidFill>
                  <a:srgbClr val="ccccff"/>
                </a:solidFill>
                <a:latin typeface="Tahoma"/>
              </a:rPr>
              <a:t>(IE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se Tree of the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32680" y="1447920"/>
            <a:ext cx="68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hild::b/following::*[position() != last() and self::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38800" y="434340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8288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82880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7" name="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63244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5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3797280" cy="3933720"/>
          </a:xfrm>
          <a:prstGeom prst="rect">
            <a:avLst/>
          </a:prstGeom>
          <a:ln w="0">
            <a:noFill/>
          </a:ln>
        </p:spPr>
      </p:pic>
      <p:sp>
        <p:nvSpPr>
          <p:cNvPr id="1246" name=""/>
          <p:cNvSpPr/>
          <p:nvPr/>
        </p:nvSpPr>
        <p:spPr>
          <a:xfrm>
            <a:off x="304920" y="6019920"/>
            <a:ext cx="167616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0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251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3" name=""/>
          <p:cNvGraphicFramePr/>
          <p:nvPr/>
        </p:nvGraphicFramePr>
        <p:xfrm>
          <a:off x="4603680" y="1905120"/>
          <a:ext cx="1873440" cy="28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03680" y="1905120"/>
                    <a:ext cx="18734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5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4"/>
          <a:stretch/>
        </p:blipFill>
        <p:spPr>
          <a:xfrm>
            <a:off x="304920" y="2590920"/>
            <a:ext cx="3797280" cy="393372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>
            <a:off x="4800600" y="56386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 fact, this is only a relevant subset of the full table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04920" y="6019920"/>
            <a:ext cx="167616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334120" y="297180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334120" y="4343400"/>
            <a:ext cx="8380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5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266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8" name=""/>
          <p:cNvGraphicFramePr/>
          <p:nvPr/>
        </p:nvGraphicFramePr>
        <p:xfrm>
          <a:off x="6937200" y="1905120"/>
          <a:ext cx="1901880" cy="28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7200" y="1905120"/>
                    <a:ext cx="190188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0" name=""/>
          <p:cNvGraphicFramePr/>
          <p:nvPr/>
        </p:nvGraphicFramePr>
        <p:xfrm>
          <a:off x="4603680" y="1905120"/>
          <a:ext cx="1873440" cy="281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03680" y="1905120"/>
                    <a:ext cx="18734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2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304920" y="2590920"/>
          <a:ext cx="3797280" cy="393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2590920"/>
                    <a:ext cx="379728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5" name=""/>
          <p:cNvSpPr/>
          <p:nvPr/>
        </p:nvSpPr>
        <p:spPr>
          <a:xfrm>
            <a:off x="4800600" y="56386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 fact, this is only a relevant subset of the full table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57400" y="6019920"/>
            <a:ext cx="121932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077320" y="2971800"/>
            <a:ext cx="4572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077320" y="4343400"/>
            <a:ext cx="4572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077320" y="3657600"/>
            <a:ext cx="4572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3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284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6" name=""/>
          <p:cNvGraphicFramePr/>
          <p:nvPr/>
        </p:nvGraphicFramePr>
        <p:xfrm>
          <a:off x="6934320" y="3429000"/>
          <a:ext cx="1898640" cy="28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429000"/>
                    <a:ext cx="189864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8" name=""/>
          <p:cNvGraphicFramePr/>
          <p:nvPr/>
        </p:nvGraphicFramePr>
        <p:xfrm>
          <a:off x="4603680" y="3429000"/>
          <a:ext cx="1873440" cy="281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03680" y="3429000"/>
                    <a:ext cx="1873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0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6"/>
          <a:stretch/>
        </p:blipFill>
        <p:spPr>
          <a:xfrm>
            <a:off x="304920" y="2590920"/>
            <a:ext cx="3797280" cy="39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2" name=""/>
          <p:cNvGraphicFramePr/>
          <p:nvPr/>
        </p:nvGraphicFramePr>
        <p:xfrm>
          <a:off x="5724360" y="228600"/>
          <a:ext cx="2048040" cy="281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228600"/>
                    <a:ext cx="20480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4" name=""/>
          <p:cNvSpPr/>
          <p:nvPr/>
        </p:nvSpPr>
        <p:spPr>
          <a:xfrm>
            <a:off x="5029200" y="1066680"/>
            <a:ext cx="35812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38080" y="5334120"/>
            <a:ext cx="160020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2" name=""/>
          <p:cNvGraphicFramePr/>
          <p:nvPr/>
        </p:nvGraphicFramePr>
        <p:xfrm>
          <a:off x="6934320" y="3429000"/>
          <a:ext cx="1898640" cy="28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429000"/>
                    <a:ext cx="189864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4" name=""/>
          <p:cNvGraphicFramePr/>
          <p:nvPr/>
        </p:nvGraphicFramePr>
        <p:xfrm>
          <a:off x="4603680" y="3429000"/>
          <a:ext cx="1873440" cy="281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03680" y="3429000"/>
                    <a:ext cx="1873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6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6"/>
          <a:stretch/>
        </p:blipFill>
        <p:spPr>
          <a:xfrm>
            <a:off x="304920" y="2590920"/>
            <a:ext cx="3797280" cy="39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8" name=""/>
          <p:cNvGraphicFramePr/>
          <p:nvPr/>
        </p:nvGraphicFramePr>
        <p:xfrm>
          <a:off x="5724360" y="228600"/>
          <a:ext cx="2048040" cy="281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228600"/>
                    <a:ext cx="20480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0" name=""/>
          <p:cNvSpPr/>
          <p:nvPr/>
        </p:nvSpPr>
        <p:spPr>
          <a:xfrm>
            <a:off x="5029200" y="1295280"/>
            <a:ext cx="37339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38080" y="5334120"/>
            <a:ext cx="160020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495680" y="4191120"/>
            <a:ext cx="441972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317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9" name=""/>
          <p:cNvGraphicFramePr/>
          <p:nvPr/>
        </p:nvGraphicFramePr>
        <p:xfrm>
          <a:off x="6934320" y="3429000"/>
          <a:ext cx="1898640" cy="28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429000"/>
                    <a:ext cx="189864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1" name=""/>
          <p:cNvGraphicFramePr/>
          <p:nvPr/>
        </p:nvGraphicFramePr>
        <p:xfrm>
          <a:off x="4603680" y="3429000"/>
          <a:ext cx="1873440" cy="281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03680" y="3429000"/>
                    <a:ext cx="1873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4" name="" descr=""/>
          <p:cNvPicPr/>
          <p:nvPr/>
        </p:nvPicPr>
        <p:blipFill>
          <a:blip r:embed="rId6"/>
          <a:stretch/>
        </p:blipFill>
        <p:spPr>
          <a:xfrm>
            <a:off x="304920" y="2590920"/>
            <a:ext cx="3797280" cy="39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5" name=""/>
          <p:cNvGraphicFramePr/>
          <p:nvPr/>
        </p:nvGraphicFramePr>
        <p:xfrm>
          <a:off x="5724360" y="228600"/>
          <a:ext cx="2048040" cy="281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228600"/>
                    <a:ext cx="20480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7" name=""/>
          <p:cNvSpPr/>
          <p:nvPr/>
        </p:nvSpPr>
        <p:spPr>
          <a:xfrm>
            <a:off x="5029200" y="1600200"/>
            <a:ext cx="3733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838080" y="5334120"/>
            <a:ext cx="160020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95680" y="4572000"/>
            <a:ext cx="44197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3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334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6" name=""/>
          <p:cNvGraphicFramePr/>
          <p:nvPr/>
        </p:nvGraphicFramePr>
        <p:xfrm>
          <a:off x="6934320" y="3429000"/>
          <a:ext cx="1898640" cy="28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429000"/>
                    <a:ext cx="189864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8" name=""/>
          <p:cNvGraphicFramePr/>
          <p:nvPr/>
        </p:nvGraphicFramePr>
        <p:xfrm>
          <a:off x="4603680" y="3429000"/>
          <a:ext cx="1873440" cy="281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03680" y="3429000"/>
                    <a:ext cx="1873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0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" descr=""/>
          <p:cNvPicPr/>
          <p:nvPr/>
        </p:nvPicPr>
        <p:blipFill>
          <a:blip r:embed="rId6"/>
          <a:stretch/>
        </p:blipFill>
        <p:spPr>
          <a:xfrm>
            <a:off x="304920" y="2590920"/>
            <a:ext cx="3797280" cy="39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2" name=""/>
          <p:cNvGraphicFramePr/>
          <p:nvPr/>
        </p:nvGraphicFramePr>
        <p:xfrm>
          <a:off x="5724360" y="228600"/>
          <a:ext cx="2048040" cy="281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228600"/>
                    <a:ext cx="20480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4" name=""/>
          <p:cNvSpPr/>
          <p:nvPr/>
        </p:nvSpPr>
        <p:spPr>
          <a:xfrm>
            <a:off x="5029200" y="1981080"/>
            <a:ext cx="3962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38080" y="5334120"/>
            <a:ext cx="160020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495680" y="4876920"/>
            <a:ext cx="441972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0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351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3" name=""/>
          <p:cNvGraphicFramePr/>
          <p:nvPr/>
        </p:nvGraphicFramePr>
        <p:xfrm>
          <a:off x="6934320" y="3429000"/>
          <a:ext cx="1898640" cy="28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429000"/>
                    <a:ext cx="189864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5" name=""/>
          <p:cNvGraphicFramePr/>
          <p:nvPr/>
        </p:nvGraphicFramePr>
        <p:xfrm>
          <a:off x="4603680" y="3429000"/>
          <a:ext cx="1873440" cy="281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03680" y="3429000"/>
                    <a:ext cx="1873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7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8" name="" descr=""/>
          <p:cNvPicPr/>
          <p:nvPr/>
        </p:nvPicPr>
        <p:blipFill>
          <a:blip r:embed="rId6"/>
          <a:stretch/>
        </p:blipFill>
        <p:spPr>
          <a:xfrm>
            <a:off x="304920" y="2590920"/>
            <a:ext cx="3797280" cy="39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9" name=""/>
          <p:cNvGraphicFramePr/>
          <p:nvPr/>
        </p:nvGraphicFramePr>
        <p:xfrm>
          <a:off x="5724360" y="228600"/>
          <a:ext cx="2048040" cy="281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228600"/>
                    <a:ext cx="20480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1" name=""/>
          <p:cNvSpPr/>
          <p:nvPr/>
        </p:nvSpPr>
        <p:spPr>
          <a:xfrm>
            <a:off x="5029200" y="2362320"/>
            <a:ext cx="3809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38080" y="5334120"/>
            <a:ext cx="160020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495680" y="5181480"/>
            <a:ext cx="44197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0" name=""/>
          <p:cNvGraphicFramePr/>
          <p:nvPr/>
        </p:nvGraphicFramePr>
        <p:xfrm>
          <a:off x="6934320" y="3429000"/>
          <a:ext cx="1898640" cy="28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429000"/>
                    <a:ext cx="189864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2" name=""/>
          <p:cNvGraphicFramePr/>
          <p:nvPr/>
        </p:nvGraphicFramePr>
        <p:xfrm>
          <a:off x="4603680" y="3429000"/>
          <a:ext cx="1873440" cy="281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03680" y="3429000"/>
                    <a:ext cx="1873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4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5" name="" descr=""/>
          <p:cNvPicPr/>
          <p:nvPr/>
        </p:nvPicPr>
        <p:blipFill>
          <a:blip r:embed="rId6"/>
          <a:stretch/>
        </p:blipFill>
        <p:spPr>
          <a:xfrm>
            <a:off x="304920" y="2590920"/>
            <a:ext cx="3797280" cy="39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6" name=""/>
          <p:cNvGraphicFramePr/>
          <p:nvPr/>
        </p:nvGraphicFramePr>
        <p:xfrm>
          <a:off x="5724360" y="228600"/>
          <a:ext cx="2048040" cy="281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228600"/>
                    <a:ext cx="20480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8" name=""/>
          <p:cNvSpPr/>
          <p:nvPr/>
        </p:nvSpPr>
        <p:spPr>
          <a:xfrm>
            <a:off x="5029200" y="2666880"/>
            <a:ext cx="3733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38080" y="5334120"/>
            <a:ext cx="160020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495680" y="5562720"/>
            <a:ext cx="441972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e XPat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75248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escendant::a/child::b[descendant::c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following-sibling::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11320" y="4038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992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2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286000" y="48769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1132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69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487692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26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5867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69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6200" y="609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380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1676520"/>
            <a:ext cx="38124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7520" y="2743200"/>
            <a:ext cx="144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ash m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 n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3352680"/>
            <a:ext cx="990720" cy="609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9040" y="34783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21000" y="5562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4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385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7" name=""/>
          <p:cNvGraphicFramePr/>
          <p:nvPr/>
        </p:nvGraphicFramePr>
        <p:xfrm>
          <a:off x="6934320" y="3429000"/>
          <a:ext cx="1898640" cy="28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429000"/>
                    <a:ext cx="189864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9" name=""/>
          <p:cNvGraphicFramePr/>
          <p:nvPr/>
        </p:nvGraphicFramePr>
        <p:xfrm>
          <a:off x="4603680" y="3429000"/>
          <a:ext cx="1873440" cy="281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03680" y="3429000"/>
                    <a:ext cx="1873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1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6"/>
          <a:stretch/>
        </p:blipFill>
        <p:spPr>
          <a:xfrm>
            <a:off x="304920" y="2590920"/>
            <a:ext cx="3797280" cy="39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3" name=""/>
          <p:cNvGraphicFramePr/>
          <p:nvPr/>
        </p:nvGraphicFramePr>
        <p:xfrm>
          <a:off x="5724360" y="228600"/>
          <a:ext cx="2048040" cy="281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228600"/>
                    <a:ext cx="20480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5" name=""/>
          <p:cNvSpPr/>
          <p:nvPr/>
        </p:nvSpPr>
        <p:spPr>
          <a:xfrm>
            <a:off x="838080" y="5334120"/>
            <a:ext cx="160020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495680" y="5867280"/>
            <a:ext cx="44197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0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401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5" name=""/>
          <p:cNvGraphicFramePr/>
          <p:nvPr/>
        </p:nvGraphicFramePr>
        <p:xfrm>
          <a:off x="5791320" y="3581280"/>
          <a:ext cx="216036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3581280"/>
                    <a:ext cx="2160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7" name=""/>
          <p:cNvGraphicFramePr/>
          <p:nvPr/>
        </p:nvGraphicFramePr>
        <p:xfrm>
          <a:off x="5867280" y="609480"/>
          <a:ext cx="2089440" cy="282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09480"/>
                    <a:ext cx="20894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9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" descr=""/>
          <p:cNvPicPr/>
          <p:nvPr/>
        </p:nvPicPr>
        <p:blipFill>
          <a:blip r:embed="rId6"/>
          <a:stretch/>
        </p:blipFill>
        <p:spPr>
          <a:xfrm>
            <a:off x="573120" y="2666880"/>
            <a:ext cx="3846600" cy="3857760"/>
          </a:xfrm>
          <a:prstGeom prst="rect">
            <a:avLst/>
          </a:prstGeom>
          <a:ln w="0">
            <a:noFill/>
          </a:ln>
        </p:spPr>
      </p:pic>
      <p:sp>
        <p:nvSpPr>
          <p:cNvPr id="1411" name=""/>
          <p:cNvSpPr/>
          <p:nvPr/>
        </p:nvSpPr>
        <p:spPr>
          <a:xfrm>
            <a:off x="4876920" y="380880"/>
            <a:ext cx="3962160" cy="31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5880" y="4648320"/>
            <a:ext cx="1295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095880" y="5410080"/>
            <a:ext cx="1295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095880" y="6019920"/>
            <a:ext cx="1295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286000" y="6095880"/>
            <a:ext cx="1371600" cy="38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4" name=""/>
          <p:cNvGraphicFramePr/>
          <p:nvPr/>
        </p:nvGraphicFramePr>
        <p:xfrm>
          <a:off x="5791320" y="3581280"/>
          <a:ext cx="216036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3581280"/>
                    <a:ext cx="2160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6" name=""/>
          <p:cNvGraphicFramePr/>
          <p:nvPr/>
        </p:nvGraphicFramePr>
        <p:xfrm>
          <a:off x="5867280" y="609480"/>
          <a:ext cx="2089440" cy="282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09480"/>
                    <a:ext cx="20894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8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" descr=""/>
          <p:cNvPicPr/>
          <p:nvPr/>
        </p:nvPicPr>
        <p:blipFill>
          <a:blip r:embed="rId6"/>
          <a:stretch/>
        </p:blipFill>
        <p:spPr>
          <a:xfrm>
            <a:off x="573120" y="2666880"/>
            <a:ext cx="3846600" cy="385776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4876920" y="1447920"/>
            <a:ext cx="38098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057400" y="5257800"/>
            <a:ext cx="19810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5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436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0" name=""/>
          <p:cNvGraphicFramePr/>
          <p:nvPr/>
        </p:nvGraphicFramePr>
        <p:xfrm>
          <a:off x="5791320" y="3581280"/>
          <a:ext cx="216036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3581280"/>
                    <a:ext cx="2160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2" name=""/>
          <p:cNvGraphicFramePr/>
          <p:nvPr/>
        </p:nvGraphicFramePr>
        <p:xfrm>
          <a:off x="5867280" y="609480"/>
          <a:ext cx="2089440" cy="282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09480"/>
                    <a:ext cx="20894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4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5" name="" descr=""/>
          <p:cNvPicPr/>
          <p:nvPr/>
        </p:nvPicPr>
        <p:blipFill>
          <a:blip r:embed="rId6"/>
          <a:stretch/>
        </p:blipFill>
        <p:spPr>
          <a:xfrm>
            <a:off x="573120" y="2666880"/>
            <a:ext cx="3846600" cy="3857760"/>
          </a:xfrm>
          <a:prstGeom prst="rect">
            <a:avLst/>
          </a:prstGeom>
          <a:ln w="0">
            <a:noFill/>
          </a:ln>
        </p:spPr>
      </p:pic>
      <p:sp>
        <p:nvSpPr>
          <p:cNvPr id="1446" name=""/>
          <p:cNvSpPr/>
          <p:nvPr/>
        </p:nvSpPr>
        <p:spPr>
          <a:xfrm>
            <a:off x="4876920" y="1676520"/>
            <a:ext cx="38098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57400" y="5257800"/>
            <a:ext cx="19810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715000" y="4343400"/>
            <a:ext cx="22860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2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453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7" name=""/>
          <p:cNvGraphicFramePr/>
          <p:nvPr/>
        </p:nvGraphicFramePr>
        <p:xfrm>
          <a:off x="5791320" y="3581280"/>
          <a:ext cx="216036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3581280"/>
                    <a:ext cx="2160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9" name=""/>
          <p:cNvGraphicFramePr/>
          <p:nvPr/>
        </p:nvGraphicFramePr>
        <p:xfrm>
          <a:off x="5867280" y="609480"/>
          <a:ext cx="2089440" cy="282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09480"/>
                    <a:ext cx="20894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1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2" name="" descr=""/>
          <p:cNvPicPr/>
          <p:nvPr/>
        </p:nvPicPr>
        <p:blipFill>
          <a:blip r:embed="rId6"/>
          <a:stretch/>
        </p:blipFill>
        <p:spPr>
          <a:xfrm>
            <a:off x="573120" y="2666880"/>
            <a:ext cx="3846600" cy="3857760"/>
          </a:xfrm>
          <a:prstGeom prst="rect">
            <a:avLst/>
          </a:prstGeom>
          <a:ln w="0">
            <a:noFill/>
          </a:ln>
        </p:spPr>
      </p:pic>
      <p:sp>
        <p:nvSpPr>
          <p:cNvPr id="1463" name=""/>
          <p:cNvSpPr/>
          <p:nvPr/>
        </p:nvSpPr>
        <p:spPr>
          <a:xfrm>
            <a:off x="4876920" y="2057400"/>
            <a:ext cx="3886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057400" y="5257800"/>
            <a:ext cx="19810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715000" y="4648320"/>
            <a:ext cx="22860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9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470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4" name=""/>
          <p:cNvGraphicFramePr/>
          <p:nvPr/>
        </p:nvGraphicFramePr>
        <p:xfrm>
          <a:off x="5791320" y="3581280"/>
          <a:ext cx="216036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3581280"/>
                    <a:ext cx="2160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6" name=""/>
          <p:cNvGraphicFramePr/>
          <p:nvPr/>
        </p:nvGraphicFramePr>
        <p:xfrm>
          <a:off x="5867280" y="609480"/>
          <a:ext cx="2089440" cy="282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09480"/>
                    <a:ext cx="20894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8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9" name="" descr=""/>
          <p:cNvPicPr/>
          <p:nvPr/>
        </p:nvPicPr>
        <p:blipFill>
          <a:blip r:embed="rId6"/>
          <a:stretch/>
        </p:blipFill>
        <p:spPr>
          <a:xfrm>
            <a:off x="573120" y="2666880"/>
            <a:ext cx="3846600" cy="3857760"/>
          </a:xfrm>
          <a:prstGeom prst="rect">
            <a:avLst/>
          </a:prstGeom>
          <a:ln w="0">
            <a:noFill/>
          </a:ln>
        </p:spPr>
      </p:pic>
      <p:sp>
        <p:nvSpPr>
          <p:cNvPr id="1480" name=""/>
          <p:cNvSpPr/>
          <p:nvPr/>
        </p:nvSpPr>
        <p:spPr>
          <a:xfrm>
            <a:off x="4876920" y="2362320"/>
            <a:ext cx="4114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57400" y="5257800"/>
            <a:ext cx="19810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715000" y="5029200"/>
            <a:ext cx="22860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487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1" name=""/>
          <p:cNvGraphicFramePr/>
          <p:nvPr/>
        </p:nvGraphicFramePr>
        <p:xfrm>
          <a:off x="5791320" y="3581280"/>
          <a:ext cx="216036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3581280"/>
                    <a:ext cx="2160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3" name=""/>
          <p:cNvGraphicFramePr/>
          <p:nvPr/>
        </p:nvGraphicFramePr>
        <p:xfrm>
          <a:off x="5867280" y="609480"/>
          <a:ext cx="2089440" cy="282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09480"/>
                    <a:ext cx="20894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5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6"/>
          <a:stretch/>
        </p:blipFill>
        <p:spPr>
          <a:xfrm>
            <a:off x="573120" y="2666880"/>
            <a:ext cx="3846600" cy="385776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4876920" y="2743200"/>
            <a:ext cx="40384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057400" y="5257800"/>
            <a:ext cx="19810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715000" y="5334120"/>
            <a:ext cx="22860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504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8" name=""/>
          <p:cNvGraphicFramePr/>
          <p:nvPr/>
        </p:nvGraphicFramePr>
        <p:xfrm>
          <a:off x="5791320" y="3581280"/>
          <a:ext cx="216036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3581280"/>
                    <a:ext cx="2160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0" name=""/>
          <p:cNvGraphicFramePr/>
          <p:nvPr/>
        </p:nvGraphicFramePr>
        <p:xfrm>
          <a:off x="5867280" y="609480"/>
          <a:ext cx="2089440" cy="282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09480"/>
                    <a:ext cx="20894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2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3" name="" descr=""/>
          <p:cNvPicPr/>
          <p:nvPr/>
        </p:nvPicPr>
        <p:blipFill>
          <a:blip r:embed="rId6"/>
          <a:stretch/>
        </p:blipFill>
        <p:spPr>
          <a:xfrm>
            <a:off x="573120" y="2666880"/>
            <a:ext cx="3846600" cy="3857760"/>
          </a:xfrm>
          <a:prstGeom prst="rect">
            <a:avLst/>
          </a:prstGeom>
          <a:ln w="0">
            <a:noFill/>
          </a:ln>
        </p:spPr>
      </p:pic>
      <p:sp>
        <p:nvSpPr>
          <p:cNvPr id="1514" name=""/>
          <p:cNvSpPr/>
          <p:nvPr/>
        </p:nvSpPr>
        <p:spPr>
          <a:xfrm>
            <a:off x="4876920" y="3048120"/>
            <a:ext cx="4114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057400" y="5257800"/>
            <a:ext cx="19810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715000" y="5715000"/>
            <a:ext cx="22860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0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521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5791320" y="3581280"/>
          <a:ext cx="216036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3581280"/>
                    <a:ext cx="2160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7" name=""/>
          <p:cNvGraphicFramePr/>
          <p:nvPr/>
        </p:nvGraphicFramePr>
        <p:xfrm>
          <a:off x="5867280" y="609480"/>
          <a:ext cx="2089440" cy="282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09480"/>
                    <a:ext cx="20894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9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0" name="" descr=""/>
          <p:cNvPicPr/>
          <p:nvPr/>
        </p:nvPicPr>
        <p:blipFill>
          <a:blip r:embed="rId6"/>
          <a:stretch/>
        </p:blipFill>
        <p:spPr>
          <a:xfrm>
            <a:off x="573120" y="2666880"/>
            <a:ext cx="3846600" cy="3857760"/>
          </a:xfrm>
          <a:prstGeom prst="rect">
            <a:avLst/>
          </a:prstGeom>
          <a:ln w="0">
            <a:noFill/>
          </a:ln>
        </p:spPr>
      </p:pic>
      <p:sp>
        <p:nvSpPr>
          <p:cNvPr id="1531" name=""/>
          <p:cNvSpPr/>
          <p:nvPr/>
        </p:nvSpPr>
        <p:spPr>
          <a:xfrm>
            <a:off x="2057400" y="5257800"/>
            <a:ext cx="19810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715000" y="6019920"/>
            <a:ext cx="22860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6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537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1" name=""/>
          <p:cNvGraphicFramePr/>
          <p:nvPr/>
        </p:nvGraphicFramePr>
        <p:xfrm>
          <a:off x="6858000" y="3505320"/>
          <a:ext cx="2089080" cy="28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05320"/>
                    <a:ext cx="20890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3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4" name="" descr=""/>
          <p:cNvPicPr/>
          <p:nvPr/>
        </p:nvPicPr>
        <p:blipFill>
          <a:blip r:embed="rId4"/>
          <a:stretch/>
        </p:blipFill>
        <p:spPr>
          <a:xfrm>
            <a:off x="380880" y="2438280"/>
            <a:ext cx="3897360" cy="403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5" name=""/>
          <p:cNvGraphicFramePr/>
          <p:nvPr/>
        </p:nvGraphicFramePr>
        <p:xfrm>
          <a:off x="4572000" y="3505320"/>
          <a:ext cx="2048040" cy="28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505320"/>
                    <a:ext cx="2048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7" name=""/>
          <p:cNvGraphicFramePr/>
          <p:nvPr/>
        </p:nvGraphicFramePr>
        <p:xfrm>
          <a:off x="5715000" y="457200"/>
          <a:ext cx="2017800" cy="278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57200"/>
                    <a:ext cx="20178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9" name=""/>
          <p:cNvSpPr/>
          <p:nvPr/>
        </p:nvSpPr>
        <p:spPr>
          <a:xfrm>
            <a:off x="1143000" y="4419720"/>
            <a:ext cx="167652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876920" y="1295280"/>
            <a:ext cx="4114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e XPat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75248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escendant::a/child::b[descendant::c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following-sibling::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11320" y="4038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3992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292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286000" y="48769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1132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69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487692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26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5867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69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6200" y="609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6000" y="40384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descendant::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66000" y="4572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/descendant::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4038480"/>
            <a:ext cx="2438280" cy="4572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4572000"/>
            <a:ext cx="2438280" cy="4572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676520"/>
            <a:ext cx="205740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3352680"/>
            <a:ext cx="990720" cy="609840"/>
          </a:xfrm>
          <a:prstGeom prst="ellipse">
            <a:avLst/>
          </a:prstGeom>
          <a:noFill/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9040" y="34783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21000" y="5562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4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555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6858000" y="3505320"/>
          <a:ext cx="2089080" cy="28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05320"/>
                    <a:ext cx="20890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1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4"/>
          <a:stretch/>
        </p:blipFill>
        <p:spPr>
          <a:xfrm>
            <a:off x="380880" y="2438280"/>
            <a:ext cx="3897360" cy="403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3" name=""/>
          <p:cNvGraphicFramePr/>
          <p:nvPr/>
        </p:nvGraphicFramePr>
        <p:xfrm>
          <a:off x="4572000" y="3505320"/>
          <a:ext cx="2048040" cy="28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505320"/>
                    <a:ext cx="2048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5" name=""/>
          <p:cNvGraphicFramePr/>
          <p:nvPr/>
        </p:nvGraphicFramePr>
        <p:xfrm>
          <a:off x="5715000" y="457200"/>
          <a:ext cx="2017800" cy="278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57200"/>
                    <a:ext cx="20178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7" name=""/>
          <p:cNvSpPr/>
          <p:nvPr/>
        </p:nvSpPr>
        <p:spPr>
          <a:xfrm>
            <a:off x="1143000" y="4419720"/>
            <a:ext cx="167652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876920" y="1600200"/>
            <a:ext cx="40384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495680" y="4267080"/>
            <a:ext cx="449604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3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574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6858000" y="3505320"/>
          <a:ext cx="2089080" cy="28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05320"/>
                    <a:ext cx="20890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4"/>
          <a:stretch/>
        </p:blipFill>
        <p:spPr>
          <a:xfrm>
            <a:off x="380880" y="2438280"/>
            <a:ext cx="3897360" cy="403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2" name=""/>
          <p:cNvGraphicFramePr/>
          <p:nvPr/>
        </p:nvGraphicFramePr>
        <p:xfrm>
          <a:off x="4572000" y="3505320"/>
          <a:ext cx="2048040" cy="28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505320"/>
                    <a:ext cx="2048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4" name=""/>
          <p:cNvGraphicFramePr/>
          <p:nvPr/>
        </p:nvGraphicFramePr>
        <p:xfrm>
          <a:off x="5715000" y="457200"/>
          <a:ext cx="2017800" cy="278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57200"/>
                    <a:ext cx="20178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6" name=""/>
          <p:cNvSpPr/>
          <p:nvPr/>
        </p:nvSpPr>
        <p:spPr>
          <a:xfrm>
            <a:off x="1143000" y="4419720"/>
            <a:ext cx="167652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876920" y="1905120"/>
            <a:ext cx="4267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95680" y="4572000"/>
            <a:ext cx="44960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2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593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0" y="3505320"/>
          <a:ext cx="2089080" cy="28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05320"/>
                    <a:ext cx="20890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" descr=""/>
          <p:cNvPicPr/>
          <p:nvPr/>
        </p:nvPicPr>
        <p:blipFill>
          <a:blip r:embed="rId4"/>
          <a:stretch/>
        </p:blipFill>
        <p:spPr>
          <a:xfrm>
            <a:off x="380880" y="2438280"/>
            <a:ext cx="3897360" cy="403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1" name=""/>
          <p:cNvGraphicFramePr/>
          <p:nvPr/>
        </p:nvGraphicFramePr>
        <p:xfrm>
          <a:off x="4572000" y="3505320"/>
          <a:ext cx="2048040" cy="28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505320"/>
                    <a:ext cx="2048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3" name=""/>
          <p:cNvGraphicFramePr/>
          <p:nvPr/>
        </p:nvGraphicFramePr>
        <p:xfrm>
          <a:off x="5715000" y="457200"/>
          <a:ext cx="2017800" cy="278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57200"/>
                    <a:ext cx="20178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5" name=""/>
          <p:cNvSpPr/>
          <p:nvPr/>
        </p:nvSpPr>
        <p:spPr>
          <a:xfrm>
            <a:off x="1143000" y="4419720"/>
            <a:ext cx="167652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876920" y="2209680"/>
            <a:ext cx="42670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495680" y="4876920"/>
            <a:ext cx="44960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1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612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6" name=""/>
          <p:cNvGraphicFramePr/>
          <p:nvPr/>
        </p:nvGraphicFramePr>
        <p:xfrm>
          <a:off x="6858000" y="3505320"/>
          <a:ext cx="2089080" cy="28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05320"/>
                    <a:ext cx="20890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8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" descr=""/>
          <p:cNvPicPr/>
          <p:nvPr/>
        </p:nvPicPr>
        <p:blipFill>
          <a:blip r:embed="rId4"/>
          <a:stretch/>
        </p:blipFill>
        <p:spPr>
          <a:xfrm>
            <a:off x="380880" y="2438280"/>
            <a:ext cx="3897360" cy="403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0" name=""/>
          <p:cNvGraphicFramePr/>
          <p:nvPr/>
        </p:nvGraphicFramePr>
        <p:xfrm>
          <a:off x="4572000" y="3505320"/>
          <a:ext cx="2048040" cy="28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505320"/>
                    <a:ext cx="2048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2" name=""/>
          <p:cNvGraphicFramePr/>
          <p:nvPr/>
        </p:nvGraphicFramePr>
        <p:xfrm>
          <a:off x="5715000" y="457200"/>
          <a:ext cx="2017800" cy="278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57200"/>
                    <a:ext cx="20178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4" name=""/>
          <p:cNvSpPr/>
          <p:nvPr/>
        </p:nvSpPr>
        <p:spPr>
          <a:xfrm>
            <a:off x="1143000" y="4419720"/>
            <a:ext cx="167652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876920" y="2514600"/>
            <a:ext cx="4267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495680" y="5257800"/>
            <a:ext cx="44960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0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631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0" y="3505320"/>
          <a:ext cx="2089080" cy="28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05320"/>
                    <a:ext cx="20890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" descr=""/>
          <p:cNvPicPr/>
          <p:nvPr/>
        </p:nvPicPr>
        <p:blipFill>
          <a:blip r:embed="rId4"/>
          <a:stretch/>
        </p:blipFill>
        <p:spPr>
          <a:xfrm>
            <a:off x="380880" y="2438280"/>
            <a:ext cx="3897360" cy="403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9" name=""/>
          <p:cNvGraphicFramePr/>
          <p:nvPr/>
        </p:nvGraphicFramePr>
        <p:xfrm>
          <a:off x="4572000" y="3505320"/>
          <a:ext cx="2048040" cy="28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505320"/>
                    <a:ext cx="2048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1" name=""/>
          <p:cNvGraphicFramePr/>
          <p:nvPr/>
        </p:nvGraphicFramePr>
        <p:xfrm>
          <a:off x="5715000" y="457200"/>
          <a:ext cx="2017800" cy="278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57200"/>
                    <a:ext cx="20178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3" name=""/>
          <p:cNvSpPr/>
          <p:nvPr/>
        </p:nvSpPr>
        <p:spPr>
          <a:xfrm>
            <a:off x="1143000" y="4419720"/>
            <a:ext cx="167652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724280" y="2895480"/>
            <a:ext cx="44197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495680" y="5562720"/>
            <a:ext cx="44960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9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4" name=""/>
          <p:cNvGraphicFramePr/>
          <p:nvPr/>
        </p:nvGraphicFramePr>
        <p:xfrm>
          <a:off x="6858000" y="3505320"/>
          <a:ext cx="2089080" cy="28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05320"/>
                    <a:ext cx="20890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6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7" name="" descr=""/>
          <p:cNvPicPr/>
          <p:nvPr/>
        </p:nvPicPr>
        <p:blipFill>
          <a:blip r:embed="rId4"/>
          <a:stretch/>
        </p:blipFill>
        <p:spPr>
          <a:xfrm>
            <a:off x="380880" y="2438280"/>
            <a:ext cx="3897360" cy="403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8" name=""/>
          <p:cNvGraphicFramePr/>
          <p:nvPr/>
        </p:nvGraphicFramePr>
        <p:xfrm>
          <a:off x="4572000" y="3505320"/>
          <a:ext cx="2048040" cy="28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505320"/>
                    <a:ext cx="2048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0" name=""/>
          <p:cNvGraphicFramePr/>
          <p:nvPr/>
        </p:nvGraphicFramePr>
        <p:xfrm>
          <a:off x="5715000" y="457200"/>
          <a:ext cx="2017800" cy="278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57200"/>
                    <a:ext cx="20178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2" name=""/>
          <p:cNvSpPr/>
          <p:nvPr/>
        </p:nvSpPr>
        <p:spPr>
          <a:xfrm>
            <a:off x="1143000" y="4419720"/>
            <a:ext cx="167652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6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667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6858000" y="3505320"/>
          <a:ext cx="2017800" cy="27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05320"/>
                    <a:ext cx="20178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4" name=""/>
          <p:cNvSpPr/>
          <p:nvPr/>
        </p:nvSpPr>
        <p:spPr>
          <a:xfrm>
            <a:off x="33148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5" name="" descr=""/>
          <p:cNvPicPr/>
          <p:nvPr/>
        </p:nvPicPr>
        <p:blipFill>
          <a:blip r:embed="rId4"/>
          <a:stretch/>
        </p:blipFill>
        <p:spPr>
          <a:xfrm>
            <a:off x="685800" y="2362320"/>
            <a:ext cx="2965320" cy="41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6" name=""/>
          <p:cNvGraphicFramePr/>
          <p:nvPr/>
        </p:nvGraphicFramePr>
        <p:xfrm>
          <a:off x="4495680" y="3505320"/>
          <a:ext cx="211140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505320"/>
                    <a:ext cx="2111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8" name=""/>
          <p:cNvGraphicFramePr/>
          <p:nvPr/>
        </p:nvGraphicFramePr>
        <p:xfrm>
          <a:off x="5410080" y="685800"/>
          <a:ext cx="2138400" cy="24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685800"/>
                    <a:ext cx="21384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0" name=""/>
          <p:cNvSpPr/>
          <p:nvPr/>
        </p:nvSpPr>
        <p:spPr>
          <a:xfrm>
            <a:off x="4876920" y="533520"/>
            <a:ext cx="31240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419720" y="4267080"/>
            <a:ext cx="2286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838080" y="3657600"/>
            <a:ext cx="259092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6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687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2" name=""/>
          <p:cNvGraphicFramePr/>
          <p:nvPr/>
        </p:nvGraphicFramePr>
        <p:xfrm>
          <a:off x="6858000" y="3505320"/>
          <a:ext cx="2017800" cy="27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05320"/>
                    <a:ext cx="20178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4" name=""/>
          <p:cNvSpPr/>
          <p:nvPr/>
        </p:nvSpPr>
        <p:spPr>
          <a:xfrm>
            <a:off x="33148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5" name="" descr=""/>
          <p:cNvPicPr/>
          <p:nvPr/>
        </p:nvPicPr>
        <p:blipFill>
          <a:blip r:embed="rId4"/>
          <a:stretch/>
        </p:blipFill>
        <p:spPr>
          <a:xfrm>
            <a:off x="685800" y="2362320"/>
            <a:ext cx="2965320" cy="41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6" name=""/>
          <p:cNvGraphicFramePr/>
          <p:nvPr/>
        </p:nvGraphicFramePr>
        <p:xfrm>
          <a:off x="4495680" y="3505320"/>
          <a:ext cx="211140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505320"/>
                    <a:ext cx="2111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8" name=""/>
          <p:cNvGraphicFramePr/>
          <p:nvPr/>
        </p:nvGraphicFramePr>
        <p:xfrm>
          <a:off x="5410080" y="685800"/>
          <a:ext cx="2138400" cy="24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685800"/>
                    <a:ext cx="21384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0" name=""/>
          <p:cNvSpPr/>
          <p:nvPr/>
        </p:nvSpPr>
        <p:spPr>
          <a:xfrm>
            <a:off x="4876920" y="533520"/>
            <a:ext cx="31240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419720" y="4648320"/>
            <a:ext cx="228600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838080" y="3657600"/>
            <a:ext cx="259092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6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707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2" name=""/>
          <p:cNvGraphicFramePr/>
          <p:nvPr/>
        </p:nvGraphicFramePr>
        <p:xfrm>
          <a:off x="6858000" y="3505320"/>
          <a:ext cx="2017800" cy="27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05320"/>
                    <a:ext cx="20178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4" name=""/>
          <p:cNvSpPr/>
          <p:nvPr/>
        </p:nvSpPr>
        <p:spPr>
          <a:xfrm>
            <a:off x="33148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5" name="" descr=""/>
          <p:cNvPicPr/>
          <p:nvPr/>
        </p:nvPicPr>
        <p:blipFill>
          <a:blip r:embed="rId4"/>
          <a:stretch/>
        </p:blipFill>
        <p:spPr>
          <a:xfrm>
            <a:off x="685800" y="2362320"/>
            <a:ext cx="2965320" cy="41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6" name=""/>
          <p:cNvGraphicFramePr/>
          <p:nvPr/>
        </p:nvGraphicFramePr>
        <p:xfrm>
          <a:off x="4495680" y="3505320"/>
          <a:ext cx="211140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505320"/>
                    <a:ext cx="2111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8" name=""/>
          <p:cNvGraphicFramePr/>
          <p:nvPr/>
        </p:nvGraphicFramePr>
        <p:xfrm>
          <a:off x="5410080" y="685800"/>
          <a:ext cx="2138400" cy="24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685800"/>
                    <a:ext cx="21384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0" name=""/>
          <p:cNvSpPr/>
          <p:nvPr/>
        </p:nvSpPr>
        <p:spPr>
          <a:xfrm>
            <a:off x="4876920" y="533520"/>
            <a:ext cx="31240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419720" y="4876920"/>
            <a:ext cx="22860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838080" y="3657600"/>
            <a:ext cx="259092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781680" y="4267080"/>
            <a:ext cx="68580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447920" y="1752480"/>
            <a:ext cx="137160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245736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6290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45736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8" name="" descr=""/>
          <p:cNvPicPr/>
          <p:nvPr/>
        </p:nvPicPr>
        <p:blipFill>
          <a:blip r:embed="rId1"/>
          <a:stretch/>
        </p:blipFill>
        <p:spPr>
          <a:xfrm>
            <a:off x="228600" y="419040"/>
            <a:ext cx="3886200" cy="1785960"/>
          </a:xfrm>
          <a:prstGeom prst="rect">
            <a:avLst/>
          </a:prstGeom>
          <a:ln w="0">
            <a:noFill/>
          </a:ln>
        </p:spPr>
      </p:pic>
      <p:sp>
        <p:nvSpPr>
          <p:cNvPr id="1729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343400" y="10666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800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8576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4" name=""/>
          <p:cNvGraphicFramePr/>
          <p:nvPr/>
        </p:nvGraphicFramePr>
        <p:xfrm>
          <a:off x="6858000" y="3505320"/>
          <a:ext cx="2017800" cy="27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05320"/>
                    <a:ext cx="20178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6" name=""/>
          <p:cNvSpPr/>
          <p:nvPr/>
        </p:nvSpPr>
        <p:spPr>
          <a:xfrm>
            <a:off x="331488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7" name="" descr=""/>
          <p:cNvPicPr/>
          <p:nvPr/>
        </p:nvPicPr>
        <p:blipFill>
          <a:blip r:embed="rId4"/>
          <a:stretch/>
        </p:blipFill>
        <p:spPr>
          <a:xfrm>
            <a:off x="685800" y="2362320"/>
            <a:ext cx="2965320" cy="41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8" name=""/>
          <p:cNvGraphicFramePr/>
          <p:nvPr/>
        </p:nvGraphicFramePr>
        <p:xfrm>
          <a:off x="4495680" y="3505320"/>
          <a:ext cx="211140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505320"/>
                    <a:ext cx="2111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0" name=""/>
          <p:cNvGraphicFramePr/>
          <p:nvPr/>
        </p:nvGraphicFramePr>
        <p:xfrm>
          <a:off x="5410080" y="685800"/>
          <a:ext cx="2138400" cy="24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685800"/>
                    <a:ext cx="21384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2" name=""/>
          <p:cNvSpPr/>
          <p:nvPr/>
        </p:nvSpPr>
        <p:spPr>
          <a:xfrm>
            <a:off x="4876920" y="533520"/>
            <a:ext cx="31240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419720" y="5257800"/>
            <a:ext cx="2286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838080" y="3657600"/>
            <a:ext cx="2590920" cy="380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781680" y="5257800"/>
            <a:ext cx="68580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905120" y="1752480"/>
            <a:ext cx="91440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13:48:29Z</dcterms:created>
  <dc:creator>koch</dc:creator>
  <dc:description/>
  <dc:language>en-US</dc:language>
  <cp:lastModifiedBy>gottlob</cp:lastModifiedBy>
  <dcterms:modified xsi:type="dcterms:W3CDTF">2003-09-05T18:45:07Z</dcterms:modified>
  <cp:revision>170</cp:revision>
  <dc:subject/>
  <dc:title>The Complexity of XPath Query Evaluation</dc:title>
</cp:coreProperties>
</file>